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notesSlide123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5.pct" ContentType="image/x-pict"/>
  <Override PartName="/ppt/media/image19.png" ContentType="image/png"/>
  <Override PartName="/ppt/media/image28.jpeg" ContentType="image/jpeg"/>
  <Override PartName="/ppt/media/image51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49.pct" ContentType="image/x-pict"/>
  <Override PartName="/ppt/media/image14.png" ContentType="image/png"/>
  <Override PartName="/ppt/media/image48.pct" ContentType="image/x-pict"/>
  <Override PartName="/ppt/media/image1.pct" ContentType="image/x-pict"/>
  <Override PartName="/ppt/media/image4.png" ContentType="image/png"/>
  <Override PartName="/ppt/media/image31.pct" ContentType="image/x-pict"/>
  <Override PartName="/ppt/media/image27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4.jpeg" ContentType="image/jpeg"/>
  <Override PartName="/ppt/media/image38.jpeg" ContentType="image/jpeg"/>
  <Override PartName="/ppt/media/image40.jpeg" ContentType="image/jpeg"/>
  <Override PartName="/ppt/media/image44.jpeg" ContentType="image/jpeg"/>
  <Override PartName="/ppt/media/image42.png" ContentType="image/png"/>
  <Override PartName="/ppt/media/image43.png" ContentType="image/png"/>
  <Override PartName="/ppt/media/image12.png" ContentType="image/png"/>
  <Override PartName="/ppt/media/image46.pct" ContentType="image/x-pict"/>
  <Override PartName="/ppt/media/image11.png" ContentType="image/png"/>
  <Override PartName="/ppt/media/image45.jpeg" ContentType="image/jpeg"/>
  <Override PartName="/ppt/media/image41.jpeg" ContentType="image/jpeg"/>
  <Override PartName="/ppt/media/image50.jpeg" ContentType="image/jpeg"/>
  <Override PartName="/ppt/media/image56.png" ContentType="image/png"/>
  <Override PartName="/ppt/media/image13.png" ContentType="image/png"/>
  <Override PartName="/ppt/media/image54.jpeg" ContentType="image/jpeg"/>
  <Override PartName="/ppt/media/image47.pct" ContentType="image/x-pict"/>
  <Override PartName="/ppt/media/image8.png" ContentType="image/png"/>
  <Override PartName="/ppt/media/image3.png" ContentType="image/png"/>
  <Override PartName="/ppt/media/image30.pct" ContentType="image/x-pict"/>
  <Override PartName="/ppt/media/image33.png" ContentType="image/png"/>
  <Override PartName="/ppt/media/image53.jpeg" ContentType="image/jpeg"/>
  <Override PartName="/ppt/media/image7.pct" ContentType="image/x-pict"/>
  <Override PartName="/ppt/media/image37.pct" ContentType="image/x-pict"/>
  <Override PartName="/ppt/media/image9.png" ContentType="image/png"/>
  <Override PartName="/ppt/media/image6.pct" ContentType="image/x-pict"/>
  <Override PartName="/ppt/media/image39.png" ContentType="image/png"/>
  <Override PartName="/ppt/media/image5.png" ContentType="image/png"/>
  <Override PartName="/ppt/media/image52.jpeg" ContentType="image/jpeg"/>
  <Override PartName="/ppt/media/image29.jpeg" ContentType="image/jpeg"/>
  <Override PartName="/ppt/media/image35.jpeg" ContentType="image/jpe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69.xml.rels" ContentType="application/vnd.openxmlformats-package.relationships+xml"/>
  <Override PartName="/ppt/slides/_rels/slide53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7.xml.rels" ContentType="application/vnd.openxmlformats-package.relationships+xml"/>
  <Override PartName="/ppt/slides/_rels/slide131.xml.rels" ContentType="application/vnd.openxmlformats-package.relationships+xml"/>
  <Override PartName="/ppt/slides/_rels/slide149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52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100.xml.rels" ContentType="application/vnd.openxmlformats-package.relationships+xml"/>
  <Override PartName="/ppt/slides/_rels/slide23.xml.rels" ContentType="application/vnd.openxmlformats-package.relationships+xml"/>
  <Override PartName="/ppt/slides/_rels/slide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44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28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54.xml" ContentType="application/vnd.openxmlformats-officedocument.presentationml.slide+xml"/>
  <Override PartName="/ppt/slides/slide150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13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0E0A-BE35-4766-9A55-2B7979F7C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 Change all to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AV set defines a phenotypic character.  By combining PCs we can build up a description that defines a complex syndrome or disease. As more is learned about a disease, PCs can be easily added or upd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box = single EAV set.  Without reading the words, you can see a pattern emerge; shh has some but not all phenotypic characteristics of holoprosencephaly, oep is better match.  This type of analysis can be done on a large scale computation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y can be tightly interwoven: somatic cell mut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he assay can be interwov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comparison is only possible insofar as we can have representations that are independent of ass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Grande"/>
              </a:rPr>
              <a:t>quality: </a:t>
            </a:r>
            <a:r>
              <a:rPr b="0" lang="en-US" sz="700" spc="-1" strike="noStrike">
                <a:solidFill>
                  <a:srgbClr val="000000"/>
                </a:solidFill>
                <a:latin typeface="Lucida Grande"/>
              </a:rPr>
              <a:t>Structure, relative size, pattern, structu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umab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Lucida Grande"/>
              </a:rPr>
              <a:t>Qual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stru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relative si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patter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structur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qualitativ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relative number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proces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Lucida Grande"/>
              </a:rPr>
              <a:t>behavioral activity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return to the acidity example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tity is not an 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SQ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AM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ing values: nicotine, peanut butter, alcoho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red and invisible? no tomat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possibility is to treat absent as “of negligible size” (accurate for wingless phenotype any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ssue vs population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y is not an attribute (higher order predicat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don’t exist in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py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 between ontology an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ic table is a module structure, built o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ontologies are often built afresh for each new task; commonly introducing not only idiosyncrasies of format or logic, but also simplifications or distortions of their subject-mat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this problem application ontology development  shoud take place always against the background of a formally robust reference ontology fra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menopause part-of aging, aging part-of de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base searching is one of the important kinds of reasoning we want to en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port mechanis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y languages and data dir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compression and just in time retrieval, ca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e object definitions or mappings between th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n synta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d descriptive langu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, they commit themselves to conceiving ontology as a science, not as a hob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uth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n example of 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ther dichotomy (and anim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: ‘Observable’ [drysdale]. Observable introduces an extra layer of indirection and the unneccessary concept of ob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a dependent continuant is an entity too,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D vs 4D. spatial regions; spatiotemporal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eria: do all the parts exist at the sam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tter go-type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ke example or a real example from Ch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logy development is inherently collaborative, and so it is important to understand the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se studies from GO in the session on use-cases will illustrate both types of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1232-8D9B-4F59-8B9C-AC377C08C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172-0EA2-4934-B5D0-82EFAC2C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6BDF-53D5-4A75-8485-E9D8ABD63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51A-8BFB-47FF-9051-D00E3E580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14FF0-065D-4DFA-A8BA-A03B3F84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1ECD-E403-489E-91C1-97BCF413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F78F-0859-40C4-88D6-536901B6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34DE-C1DD-424C-97E7-03BF4F3B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F2EAA-7934-4801-9E53-B84C11CE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15F3-BABB-4B3F-8EEF-596A3428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50B0F-D13F-4A6B-80C8-9480B0B7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0425-3121-406A-9437-3D5850119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479E-BDE0-42EF-945A-917FB156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0951-76CC-454D-87A0-FE919B50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BFC5-4643-48DA-B45F-37885CC5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D497-327E-49DF-9AE2-CB690E1B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8E1B-B356-4C3A-89CF-81B45CC2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483-1346-4266-B706-D51577CA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733F-E820-4393-A843-862FA8F1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208A-D8D8-4F89-85F9-21959DB6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77F2-412D-4495-B4D1-B085D9B4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0EA7-D498-4DC6-A526-346D71DD9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0C26-FD8F-40BA-B509-64A29E62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0695-CBD6-4EA3-90C2-2B49AA30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9dcb9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2095-6291-46DF-AC60-BAAFEB9268CA}" type="slidenum">
              <a:rPr b="0" lang="en-US" sz="1400" spc="-1" strike="noStrike">
                <a:solidFill>
                  <a:srgbClr val="e9dcb9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2133-C6AB-4257-92CF-7DFA845F5BC6}" type="slidenum">
              <a:rPr b="0" lang="en-US" sz="1400" spc="-1" strike="noStrike">
                <a:solidFill>
                  <a:srgbClr val="ffffff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832040" y="356076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7.pct"/><Relationship Id="rId2" Type="http://schemas.openxmlformats.org/officeDocument/2006/relationships/image" Target="../media/image48.pct"/><Relationship Id="rId3" Type="http://schemas.openxmlformats.org/officeDocument/2006/relationships/image" Target="../media/image49.pct"/><Relationship Id="rId4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22.png"/><Relationship Id="rId14" Type="http://schemas.openxmlformats.org/officeDocument/2006/relationships/image" Target="../media/image23.png"/><Relationship Id="rId15" Type="http://schemas.openxmlformats.org/officeDocument/2006/relationships/image" Target="../media/image24.png"/><Relationship Id="rId16" Type="http://schemas.openxmlformats.org/officeDocument/2006/relationships/image" Target="../media/image25.png"/><Relationship Id="rId17" Type="http://schemas.openxmlformats.org/officeDocument/2006/relationships/image" Target="../media/image26.png"/><Relationship Id="rId18" Type="http://schemas.openxmlformats.org/officeDocument/2006/relationships/image" Target="../media/image27.png"/><Relationship Id="rId19" Type="http://schemas.openxmlformats.org/officeDocument/2006/relationships/image" Target="../media/image28.jpeg"/><Relationship Id="rId20" Type="http://schemas.openxmlformats.org/officeDocument/2006/relationships/image" Target="../media/image29.jpeg"/><Relationship Id="rId21" Type="http://schemas.openxmlformats.org/officeDocument/2006/relationships/image" Target="../media/image30.pct"/><Relationship Id="rId22" Type="http://schemas.openxmlformats.org/officeDocument/2006/relationships/slideLayout" Target="../slideLayouts/slideLayout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5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5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ct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image" Target="../media/image37.pct"/><Relationship Id="rId3" Type="http://schemas.openxmlformats.org/officeDocument/2006/relationships/image" Target="../media/image37.pct"/><Relationship Id="rId4" Type="http://schemas.openxmlformats.org/officeDocument/2006/relationships/image" Target="../media/image37.pct"/><Relationship Id="rId5" Type="http://schemas.openxmlformats.org/officeDocument/2006/relationships/image" Target="../media/image37.pct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obo.sourceforge.net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ct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ct"/><Relationship Id="rId6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6.pct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Joy of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uzanna Lewi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MI Colloquiu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ril 2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, 200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009880" y="27000"/>
          <a:ext cx="51292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9880" y="27000"/>
                    <a:ext cx="51292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009880" y="3706920"/>
          <a:ext cx="512928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09880" y="3706920"/>
                    <a:ext cx="51292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0" y="325584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Century Gothic"/>
              </a:rPr>
              <a:t>The Challenge of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2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267840" y="525600"/>
            <a:ext cx="8610840" cy="620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tanford:  Tools for ontology alignment, indexing, and management (Cores 1, 4–7: Mark Musen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Lawrence–Berkeley Labs: Tools to use ontologies for data annotation (Cores 2, 5–7: Suzanna Lewi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yo Clinic:  Tools for access to large controlled terminologies (Core 1: Chris Chut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Victoria: Tools for ontology and data visualization (Cores 1 and 2: Margaret-Anne Story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versity at Buffalo: Dissemination of best practices for ontology engineering (Core 6: Barry Smith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Driving Biological Project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Trial Bank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UCSF, Ida Si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Flybas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Cambridge, Michael Ashburn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ZFI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: Oregon, Monte Westerfiel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7832880" y="4546440"/>
            <a:ext cx="691920" cy="86364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7696080" y="2971800"/>
            <a:ext cx="828720" cy="106668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7381800" y="1994040"/>
            <a:ext cx="114300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ase study: Phenotypes, our current work on OBD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02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11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685880" y="1752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Hum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21680" y="17524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Animal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imal disease model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22" name=""/>
          <p:cNvSpPr/>
          <p:nvPr/>
        </p:nvSpPr>
        <p:spPr>
          <a:xfrm>
            <a:off x="236232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36232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800600" y="2286000"/>
            <a:ext cx="373392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629400" y="297180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629400" y="4724280"/>
            <a:ext cx="0" cy="533520"/>
          </a:xfrm>
          <a:prstGeom prst="line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33520" y="2286000"/>
            <a:ext cx="3733560" cy="4343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Gen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 Mutant  or missing Protei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Mutant Phenotyp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Courier New"/>
                <a:ea typeface="Osaka"/>
              </a:rPr>
              <a:t>(diseas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962520" y="27432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962520" y="403848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5943600"/>
            <a:ext cx="114300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5102280" y="533520"/>
            <a:ext cx="2060640" cy="2666880"/>
          </a:xfrm>
          <a:prstGeom prst="rect">
            <a:avLst/>
          </a:prstGeom>
          <a:ln w="0">
            <a:noFill/>
          </a:ln>
        </p:spPr>
      </p:pic>
      <p:pic>
        <p:nvPicPr>
          <p:cNvPr id="632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676520" y="533520"/>
            <a:ext cx="2819160" cy="2671560"/>
          </a:xfrm>
          <a:prstGeom prst="rect">
            <a:avLst/>
          </a:prstGeom>
          <a:ln w="0">
            <a:noFill/>
          </a:ln>
        </p:spPr>
      </p:pic>
      <p:pic>
        <p:nvPicPr>
          <p:cNvPr id="633" name="" descr=""/>
          <p:cNvPicPr/>
          <p:nvPr/>
        </p:nvPicPr>
        <p:blipFill>
          <a:blip r:embed="rId3"/>
          <a:stretch/>
        </p:blipFill>
        <p:spPr>
          <a:xfrm>
            <a:off x="1828800" y="3878280"/>
            <a:ext cx="2438280" cy="2193840"/>
          </a:xfrm>
          <a:prstGeom prst="rect">
            <a:avLst/>
          </a:prstGeom>
          <a:ln w="0">
            <a:noFill/>
          </a:ln>
        </p:spPr>
      </p:pic>
      <p:pic>
        <p:nvPicPr>
          <p:cNvPr id="634" name="" descr=""/>
          <p:cNvPicPr/>
          <p:nvPr/>
        </p:nvPicPr>
        <p:blipFill>
          <a:blip r:embed="rId4"/>
          <a:stretch/>
        </p:blipFill>
        <p:spPr>
          <a:xfrm>
            <a:off x="5105520" y="3890880"/>
            <a:ext cx="2209680" cy="216720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247212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596560" y="3162240"/>
            <a:ext cx="119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6110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</a:rPr>
              <a:t>-/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562720" y="6110280"/>
            <a:ext cx="148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Courier New"/>
              </a:rPr>
              <a:t>shh</a:t>
            </a:r>
            <a:r>
              <a:rPr b="1" i="1" lang="en-US" sz="2800" spc="-1" strike="noStrike" baseline="30000">
                <a:solidFill>
                  <a:srgbClr val="ffffff"/>
                </a:solidFill>
                <a:latin typeface="Courier New"/>
              </a:rPr>
              <a:t>-/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52280" y="48564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152280" y="485640"/>
            <a:ext cx="7620120" cy="27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21" name=""/>
          <p:cNvCxnSpPr>
            <a:stCxn id="122" idx="3"/>
            <a:endCxn id="123" idx="2"/>
          </p:cNvCxnSpPr>
          <p:nvPr/>
        </p:nvCxnSpPr>
        <p:spPr>
          <a:xfrm flipV="1">
            <a:off x="3047760" y="4191120"/>
            <a:ext cx="1639080" cy="10386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4" name=""/>
          <p:cNvCxnSpPr>
            <a:stCxn id="125" idx="2"/>
            <a:endCxn id="123" idx="0"/>
          </p:cNvCxnSpPr>
          <p:nvPr/>
        </p:nvCxnSpPr>
        <p:spPr>
          <a:xfrm>
            <a:off x="1677600" y="762120"/>
            <a:ext cx="3009240" cy="228672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6" name=""/>
          <p:cNvCxnSpPr>
            <a:stCxn id="127" idx="1"/>
            <a:endCxn id="123" idx="2"/>
          </p:cNvCxnSpPr>
          <p:nvPr/>
        </p:nvCxnSpPr>
        <p:spPr>
          <a:xfrm flipH="1" flipV="1">
            <a:off x="4686120" y="4190400"/>
            <a:ext cx="724320" cy="14720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28" name=""/>
          <p:cNvCxnSpPr>
            <a:stCxn id="129" idx="3"/>
            <a:endCxn id="123" idx="1"/>
          </p:cNvCxnSpPr>
          <p:nvPr/>
        </p:nvCxnSpPr>
        <p:spPr>
          <a:xfrm>
            <a:off x="1981080" y="3507840"/>
            <a:ext cx="1524960" cy="111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0" name=""/>
          <p:cNvCxnSpPr>
            <a:stCxn id="131" idx="3"/>
            <a:endCxn id="123" idx="1"/>
          </p:cNvCxnSpPr>
          <p:nvPr/>
        </p:nvCxnSpPr>
        <p:spPr>
          <a:xfrm>
            <a:off x="1916280" y="2457360"/>
            <a:ext cx="1589760" cy="11624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2" name=""/>
          <p:cNvCxnSpPr>
            <a:endCxn id="123" idx="1"/>
          </p:cNvCxnSpPr>
          <p:nvPr/>
        </p:nvCxnSpPr>
        <p:spPr>
          <a:xfrm>
            <a:off x="1676520" y="1760400"/>
            <a:ext cx="1829520" cy="18597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3" name=""/>
          <p:cNvCxnSpPr>
            <a:stCxn id="134" idx="1"/>
            <a:endCxn id="123" idx="0"/>
          </p:cNvCxnSpPr>
          <p:nvPr/>
        </p:nvCxnSpPr>
        <p:spPr>
          <a:xfrm flipH="1">
            <a:off x="4685760" y="2173320"/>
            <a:ext cx="2400840" cy="87552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35" name=""/>
          <p:cNvCxnSpPr>
            <a:stCxn id="136" idx="2"/>
            <a:endCxn id="123" idx="0"/>
          </p:cNvCxnSpPr>
          <p:nvPr/>
        </p:nvCxnSpPr>
        <p:spPr>
          <a:xfrm flipH="1">
            <a:off x="4686120" y="1488600"/>
            <a:ext cx="2653200" cy="155988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sp>
        <p:nvSpPr>
          <p:cNvPr id="137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5"/>
          <a:stretch/>
        </p:blipFill>
        <p:spPr>
          <a:xfrm>
            <a:off x="1755720" y="4800600"/>
            <a:ext cx="1292400" cy="857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9"/>
          <a:stretch/>
        </p:blipFill>
        <p:spPr>
          <a:xfrm>
            <a:off x="6446880" y="106668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0"/>
          <a:stretch/>
        </p:blipFill>
        <p:spPr>
          <a:xfrm>
            <a:off x="457200" y="320040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5"/>
          <a:stretch/>
        </p:blipFill>
        <p:spPr>
          <a:xfrm>
            <a:off x="5867280" y="4229280"/>
            <a:ext cx="879480" cy="1028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6"/>
          <a:stretch/>
        </p:blipFill>
        <p:spPr>
          <a:xfrm>
            <a:off x="4343400" y="167652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8"/>
          <a:stretch/>
        </p:blipFill>
        <p:spPr>
          <a:xfrm>
            <a:off x="2286000" y="342900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19"/>
          <a:stretch/>
        </p:blipFill>
        <p:spPr>
          <a:xfrm>
            <a:off x="76320" y="411480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0"/>
          <a:stretch/>
        </p:blipFill>
        <p:spPr>
          <a:xfrm>
            <a:off x="152280" y="5892840"/>
            <a:ext cx="1219320" cy="812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  <p:cxnSp>
        <p:nvCxnSpPr>
          <p:cNvPr id="159" name=""/>
          <p:cNvCxnSpPr>
            <a:stCxn id="141" idx="2"/>
            <a:endCxn id="158" idx="0"/>
          </p:cNvCxnSpPr>
          <p:nvPr/>
        </p:nvCxnSpPr>
        <p:spPr>
          <a:xfrm>
            <a:off x="3714480" y="1371240"/>
            <a:ext cx="972360" cy="16772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0" name=""/>
          <p:cNvCxnSpPr>
            <a:stCxn id="153" idx="2"/>
            <a:endCxn id="158" idx="0"/>
          </p:cNvCxnSpPr>
          <p:nvPr/>
        </p:nvCxnSpPr>
        <p:spPr>
          <a:xfrm flipH="1">
            <a:off x="4686120" y="2339640"/>
            <a:ext cx="800640" cy="7088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1" name=""/>
          <p:cNvCxnSpPr>
            <a:stCxn id="143" idx="1"/>
            <a:endCxn id="158" idx="3"/>
          </p:cNvCxnSpPr>
          <p:nvPr/>
        </p:nvCxnSpPr>
        <p:spPr>
          <a:xfrm flipH="1">
            <a:off x="5866920" y="3262320"/>
            <a:ext cx="991440" cy="35784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2" name=""/>
          <p:cNvCxnSpPr>
            <a:stCxn id="140" idx="1"/>
            <a:endCxn id="158" idx="3"/>
          </p:cNvCxnSpPr>
          <p:nvPr/>
        </p:nvCxnSpPr>
        <p:spPr>
          <a:xfrm flipH="1" flipV="1">
            <a:off x="5866560" y="3619080"/>
            <a:ext cx="1296360" cy="768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3" name=""/>
          <p:cNvCxnSpPr>
            <a:stCxn id="152" idx="1"/>
            <a:endCxn id="158" idx="2"/>
          </p:cNvCxnSpPr>
          <p:nvPr/>
        </p:nvCxnSpPr>
        <p:spPr>
          <a:xfrm flipH="1" flipV="1">
            <a:off x="4686120" y="4190760"/>
            <a:ext cx="1181520" cy="552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4" name=""/>
          <p:cNvCxnSpPr>
            <a:stCxn id="150" idx="0"/>
            <a:endCxn id="158" idx="2"/>
          </p:cNvCxnSpPr>
          <p:nvPr/>
        </p:nvCxnSpPr>
        <p:spPr>
          <a:xfrm flipV="1">
            <a:off x="4304880" y="4190400"/>
            <a:ext cx="381960" cy="610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5" name=""/>
          <p:cNvCxnSpPr>
            <a:stCxn id="157" idx="0"/>
            <a:endCxn id="142" idx="1"/>
          </p:cNvCxnSpPr>
          <p:nvPr/>
        </p:nvCxnSpPr>
        <p:spPr>
          <a:xfrm flipV="1">
            <a:off x="762120" y="5228640"/>
            <a:ext cx="993960" cy="664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6" name=""/>
          <p:cNvCxnSpPr>
            <a:stCxn id="156" idx="2"/>
            <a:endCxn id="142" idx="1"/>
          </p:cNvCxnSpPr>
          <p:nvPr/>
        </p:nvCxnSpPr>
        <p:spPr>
          <a:xfrm>
            <a:off x="1066680" y="4611600"/>
            <a:ext cx="689760" cy="61848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7" name=""/>
          <p:cNvCxnSpPr>
            <a:stCxn id="155" idx="3"/>
            <a:endCxn id="158" idx="1"/>
          </p:cNvCxnSpPr>
          <p:nvPr/>
        </p:nvCxnSpPr>
        <p:spPr>
          <a:xfrm flipV="1">
            <a:off x="3200040" y="3618720"/>
            <a:ext cx="305640" cy="38196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cxnSp>
        <p:nvCxnSpPr>
          <p:cNvPr id="168" name=""/>
          <p:cNvCxnSpPr>
            <a:stCxn id="149" idx="2"/>
          </p:cNvCxnSpPr>
          <p:nvPr/>
        </p:nvCxnSpPr>
        <p:spPr>
          <a:xfrm>
            <a:off x="3085920" y="2361960"/>
            <a:ext cx="1486440" cy="610200"/>
          </a:xfrm>
          <a:prstGeom prst="straightConnector1">
            <a:avLst/>
          </a:prstGeom>
          <a:ln w="57240">
            <a:solidFill>
              <a:srgbClr val="ffcc66"/>
            </a:solidFill>
            <a:miter/>
          </a:ln>
        </p:spPr>
      </p:cxn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Century Gothic"/>
                <a:ea typeface="ＭＳ Ｐゴシック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ffcc66"/>
                </a:solidFill>
                <a:latin typeface="Century Gothic"/>
                <a:ea typeface="ＭＳ Ｐゴシック"/>
              </a:rPr>
              <a:t> make sense of biomedical data</a:t>
            </a:r>
            <a:endParaRPr b="0" lang="en-US" sz="28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152280" y="485640"/>
            <a:ext cx="762012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52280" y="485640"/>
            <a:ext cx="7848720" cy="41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3351240" y="3097080"/>
            <a:ext cx="243828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52280" y="485640"/>
            <a:ext cx="7748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257800" y="3219480"/>
            <a:ext cx="3436920" cy="2790720"/>
          </a:xfrm>
          <a:prstGeom prst="rect">
            <a:avLst/>
          </a:prstGeom>
          <a:noFill/>
          <a:ln w="19080">
            <a:solidFill>
              <a:srgbClr val="686b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entury Gothic"/>
              </a:rPr>
              <a:t>PAT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otelor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oplas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ypertroph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066680" y="3225960"/>
            <a:ext cx="2183040" cy="2741400"/>
          </a:xfrm>
          <a:prstGeom prst="rect">
            <a:avLst/>
          </a:prstGeom>
          <a:noFill/>
          <a:ln w="19080">
            <a:solidFill>
              <a:srgbClr val="686b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Century Gothic"/>
              </a:rPr>
              <a:t>ZFI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id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kidn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573440" y="415440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+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380880" y="485640"/>
            <a:ext cx="67834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17800" y="2089080"/>
            <a:ext cx="43869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atomical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 &amp; tissue ontolog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velopmental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log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495320" y="3157560"/>
            <a:ext cx="429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+     PA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phenotype and trait ontolog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4570560" y="533520"/>
            <a:ext cx="0" cy="5943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380880" y="515880"/>
            <a:ext cx="7855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heno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Century Gothic"/>
              </a:rPr>
              <a:t>(clinical sign)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ent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Century Gothic"/>
              </a:rPr>
              <a:t>qua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ey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telor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midfac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oplast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7640"/>
                <a:tab algn="l" pos="2174760"/>
                <a:tab algn="l" pos="4287960"/>
                <a:tab algn="l" pos="5884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 kidne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+   hypertrophi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838080" y="3379680"/>
            <a:ext cx="600228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yndrome =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+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+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Century Gothic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(dise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7640"/>
                <a:tab algn="l" pos="1886040"/>
                <a:tab algn="l" pos="6286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=  holoprosencepha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111240" y="1555920"/>
            <a:ext cx="8916840" cy="5008320"/>
          </a:xfrm>
          <a:prstGeom prst="rect">
            <a:avLst/>
          </a:prstGeom>
          <a:ln w="0">
            <a:noFill/>
          </a:ln>
        </p:spPr>
      </p:pic>
      <p:sp>
        <p:nvSpPr>
          <p:cNvPr id="659" name=""/>
          <p:cNvSpPr/>
          <p:nvPr/>
        </p:nvSpPr>
        <p:spPr>
          <a:xfrm>
            <a:off x="235440" y="60156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uman holo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rosencepha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657960" y="601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h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21920" y="60156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Zebraf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oep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76320" y="990720"/>
          <a:ext cx="8915040" cy="4800240"/>
        </p:xfrm>
        <a:graphic>
          <a:graphicData uri="http://schemas.openxmlformats.org/drawingml/2006/table">
            <a:tbl>
              <a:tblPr/>
              <a:tblGrid>
                <a:gridCol w="938160"/>
                <a:gridCol w="782280"/>
                <a:gridCol w="938520"/>
                <a:gridCol w="959400"/>
                <a:gridCol w="917640"/>
                <a:gridCol w="781560"/>
                <a:gridCol w="469440"/>
                <a:gridCol w="625680"/>
                <a:gridCol w="25023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OMIM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ZFIN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lyBase ge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lyBase  mut p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ZFIN mut pu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ou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ra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NOM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OMIM dise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m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LanB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c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Ferro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helatas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rotoporphyria, Erythropoieti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GLI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gli2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8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lc4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G8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Renal Tubular Acidosis, RTAD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o7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Deafness; DFNB2; DFNA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la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nemia, Sideroblastic, X-Linke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kcnh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e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-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H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yh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Mh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ardiomyopathy, Familial Hypertrophic; CM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t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p5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east Canc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atp2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Ca-P60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ody Myopat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e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25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Branchiootorenal Dyspla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Sox100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Osaka"/>
                        </a:rPr>
                        <a:t>Waardenburg-Shah Syndrom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909082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874880" y="101268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-299520" y="0"/>
            <a:ext cx="96904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70" name=""/>
          <p:cNvCxnSpPr>
            <a:stCxn id="664" idx="4"/>
            <a:endCxn id="665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1" name=""/>
          <p:cNvCxnSpPr>
            <a:stCxn id="664" idx="1"/>
            <a:endCxn id="663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72" name=""/>
          <p:cNvCxnSpPr>
            <a:stCxn id="663" idx="4"/>
            <a:endCxn id="665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Phenotype as an observa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75" name=""/>
          <p:cNvSpPr/>
          <p:nvPr/>
        </p:nvSpPr>
        <p:spPr>
          <a:xfrm>
            <a:off x="487440" y="2209680"/>
            <a:ext cx="2546280" cy="3434040"/>
          </a:xfrm>
          <a:prstGeom prst="rect">
            <a:avLst/>
          </a:prstGeom>
          <a:noFill/>
          <a:ln w="57240">
            <a:solidFill>
              <a:srgbClr val="809e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09480" y="3009960"/>
            <a:ext cx="2286000" cy="457200"/>
          </a:xfrm>
          <a:prstGeom prst="rect">
            <a:avLst/>
          </a:prstGeom>
          <a:solidFill>
            <a:srgbClr val="e9dc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7640" y="4390920"/>
            <a:ext cx="2210040" cy="51444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425760" y="2209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lass of thing observ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477120" y="2819520"/>
            <a:ext cx="1828800" cy="838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516720" y="32004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294600" y="2209680"/>
            <a:ext cx="2361960" cy="3200400"/>
          </a:xfrm>
          <a:prstGeom prst="rect">
            <a:avLst/>
          </a:prstGeom>
          <a:noFill/>
          <a:ln w="57240">
            <a:solidFill>
              <a:srgbClr val="809ea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591240" y="4191120"/>
            <a:ext cx="1676520" cy="914400"/>
          </a:xfrm>
          <a:prstGeom prst="rect">
            <a:avLst/>
          </a:prstGeom>
          <a:solidFill>
            <a:srgbClr val="e3e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593040" y="45720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425760" y="5715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85" name=""/>
          <p:cNvCxnSpPr>
            <a:stCxn id="684" idx="0"/>
            <a:endCxn id="678" idx="2"/>
          </p:cNvCxnSpPr>
          <p:nvPr/>
        </p:nvCxnSpPr>
        <p:spPr>
          <a:xfrm flipV="1">
            <a:off x="4568400" y="3031920"/>
            <a:ext cx="1080" cy="2683440"/>
          </a:xfrm>
          <a:prstGeom prst="bent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84" idx="0"/>
            <a:endCxn id="676" idx="3"/>
          </p:cNvCxnSpPr>
          <p:nvPr/>
        </p:nvCxnSpPr>
        <p:spPr>
          <a:xfrm flipV="1" rot="16200000">
            <a:off x="2493360" y="3639240"/>
            <a:ext cx="2477160" cy="167400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84" idx="0"/>
            <a:endCxn id="677" idx="3"/>
          </p:cNvCxnSpPr>
          <p:nvPr/>
        </p:nvCxnSpPr>
        <p:spPr>
          <a:xfrm flipV="1" rot="16200000">
            <a:off x="3179160" y="4325400"/>
            <a:ext cx="1067400" cy="171180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84" idx="0"/>
            <a:endCxn id="679" idx="1"/>
          </p:cNvCxnSpPr>
          <p:nvPr/>
        </p:nvCxnSpPr>
        <p:spPr>
          <a:xfrm flipH="1" flipV="1" rot="5400000">
            <a:off x="4284360" y="3521880"/>
            <a:ext cx="2477160" cy="190908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4" idx="0"/>
            <a:endCxn id="682" idx="1"/>
          </p:cNvCxnSpPr>
          <p:nvPr/>
        </p:nvCxnSpPr>
        <p:spPr>
          <a:xfrm flipH="1" flipV="1" rot="5400000">
            <a:off x="5046480" y="4169880"/>
            <a:ext cx="1067400" cy="2022840"/>
          </a:xfrm>
          <a:prstGeom prst="curvedConnector2">
            <a:avLst/>
          </a:prstGeom>
          <a:ln w="57240">
            <a:solidFill>
              <a:srgbClr val="66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4120" y="609120"/>
            <a:ext cx="891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view of proposed EAV EQ mode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phenotype is described using an Entity-Quality doubl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ntities are drawn from various OBO ontologies—cell, anatomies, GO, …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Qualities are drawn from one ontology—PAT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838080"/>
            <a:ext cx="12189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 Portion of the OBO Librar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paration of concer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ot phenotypes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Genoty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viron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say, measurement syste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ag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6" name=""/>
          <p:cNvSpPr/>
          <p:nvPr/>
        </p:nvSpPr>
        <p:spPr>
          <a:xfrm>
            <a:off x="1053360" y="4876920"/>
            <a:ext cx="7038720" cy="13629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Phenotype = Entity Qu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18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830400" y="4309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chema</a:t>
            </a:r>
            <a:r>
              <a:rPr b="0" lang="en-US" sz="2400" spc="-1" strike="noStrike">
                <a:solidFill>
                  <a:srgbClr val="ffffff"/>
                </a:solidFill>
                <a:latin typeface="Lucida Grand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2003 Pilot stud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rial of EAV model on small collection of genotyp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lyB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ZFI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s were non-orthologou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ew curations - in progres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thologous genes with clinical relevanc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the same data model and exchange format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xample data record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03" name=""/>
          <p:cNvGraphicFramePr/>
          <p:nvPr/>
        </p:nvGraphicFramePr>
        <p:xfrm>
          <a:off x="1523880" y="2438280"/>
          <a:ext cx="6019560" cy="2971800"/>
        </p:xfrm>
        <a:graphic>
          <a:graphicData uri="http://schemas.openxmlformats.org/drawingml/2006/table">
            <a:tbl>
              <a:tblPr/>
              <a:tblGrid>
                <a:gridCol w="1958760"/>
                <a:gridCol w="1622520"/>
                <a:gridCol w="243828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4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6784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ZFIN schema extension: stag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228600" y="2438280"/>
          <a:ext cx="8610480" cy="3192480"/>
        </p:xfrm>
        <a:graphic>
          <a:graphicData uri="http://schemas.openxmlformats.org/drawingml/2006/table">
            <a:tbl>
              <a:tblPr/>
              <a:tblGrid>
                <a:gridCol w="1752480"/>
                <a:gridCol w="3352680"/>
                <a:gridCol w="1295280"/>
                <a:gridCol w="2210040"/>
              </a:tblGrid>
              <a:tr h="58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tag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Pec-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Pec-f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Hatching:Long-p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Larval:Protruding-mout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090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-88200" y="2322360"/>
            <a:ext cx="9324720" cy="22280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ge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Entity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g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AnatomicalStage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96760" y="6070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* means zero or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ag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nadic and relational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onadic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inheres in a single entit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lational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inheres in two or more ent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nsitivity of an organism to a kind of drug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nsitivity of an eye to a wavelength of ligh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an turn relational qualities into cross-product monadic quali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.g. sensitivityToRedLigh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better to use relational qualitie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avoids redundancy with existing ontologi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-88200" y="2470320"/>
            <a:ext cx="9324720" cy="17859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777777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Stage* Entity Quality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Entity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Version2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41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corporating relational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16" name=""/>
          <p:cNvSpPr/>
          <p:nvPr/>
        </p:nvSpPr>
        <p:spPr>
          <a:xfrm>
            <a:off x="61200" y="50292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 data rec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68200" y="5538960"/>
            <a:ext cx="8610840" cy="4597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“organism” sensitiveTo “puromycin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915840" y="167652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easurable 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2320" y="1515960"/>
            <a:ext cx="8381880" cy="51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qualities are inexact and implicitly relative to a wild-type or normal qua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latively short, relatively long, relatively reduce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asier than explicitly representin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tail length shorter-than ‘mouse’ wild-type tail lengt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ome qualities are determinab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e a measure functi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unit, value, {time}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s tail has length 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easure(L, cm) = 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Keep measurements separate from (but linked to) quality ontolog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915840" y="133524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215280" y="2494080"/>
            <a:ext cx="8410320" cy="187200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Genotyp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Environment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777777"/>
                </a:solidFill>
                <a:latin typeface="Courier New"/>
              </a:rPr>
              <a:t>Ass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henotype = Stage* Entity Quality Entity*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Measurement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easurement = Unit Value (Ti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Quality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</a:rPr>
              <a:t>PATOVersion2Cla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12000" y="510552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 data recor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26200" y="5664240"/>
            <a:ext cx="7495920" cy="3988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henotype = “gut” “acidic” Measurement = “pH” 5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864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corporating measureme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915840" y="19875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-5724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Methodology of Annota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320480"/>
            <a:ext cx="7772400" cy="71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cientific curators use experimental observations reported in the biomedical literature to link gene products with GO terms in annotation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gene annotations taken together yield a slowly growing computer-interpretable map of biological reality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process of annotating literature also leads to improvements and extensions of the ontology itself, which institutes a virtuous cycle of improvement in the quality and  reach of future annotations and of future versions of the ontolog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7310520" y="73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tivation: to capture biological re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ferences and decisions we make are based upon what we know of the biological real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ntology is a computable representation of this underlying biological real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ables a computer to reason over the data in (some of) the ways that we do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en we annotate the record of an experimen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e use terms representing types to capture what we learn about the instan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s experiment as a whole (a proces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instances experimented upo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instances are typica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8440" indent="-221400"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y are representatives of a typ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10299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thing of beauty is a joy forev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acknowledgement and thanks to: Mark Musen, Barry Smith, Sima Misra, Chris Mungall, Daniel Rubin, and David Hil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ation of the schema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should EAV data records be interpreted by a computer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instance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 EAV schema just to improve database searching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n it be used for meaningful cross-species comparison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6" name=""/>
          <p:cNvGraphicFramePr/>
          <p:nvPr/>
        </p:nvGraphicFramePr>
        <p:xfrm>
          <a:off x="457200" y="1876320"/>
          <a:ext cx="8229600" cy="3990960"/>
        </p:xfrm>
        <a:graphic>
          <a:graphicData uri="http://schemas.openxmlformats.org/drawingml/2006/table">
            <a:tbl>
              <a:tblPr/>
              <a:tblGrid>
                <a:gridCol w="1905120"/>
                <a:gridCol w="3581280"/>
                <a:gridCol w="2743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7" name=""/>
          <p:cNvSpPr/>
          <p:nvPr/>
        </p:nvSpPr>
        <p:spPr>
          <a:xfrm>
            <a:off x="5476320" y="620712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03 trial data: FB &amp; ZF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3004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Ent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Ent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526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 practical term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 ID from one of the following ontolog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O CC, BP, and MF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pecies-specific anatomical ontolog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BO Ce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 a cross-produc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.g.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acidification GO:0045851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hich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has_locationOBOREL midgut FBbt0000538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[example from FBal0062296: Acidification in the midgut of homozygous larvae is often less than in wild-type larvae]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what does it mean in the context of an annotation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685800" y="12891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7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niversals and particula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444680"/>
            <a:ext cx="7772400" cy="678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ntology consist of universals (class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uitfly, wing, flig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xperimental data generally concerns particulars (instances) that instantiate universal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particular wing of this particular fruitf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particular fruitfly  participating in this particular flight from here to the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 annotation we often use a class ID as a proxy for an (unnamed) instance (or collection of instanc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t is important to always keep this distinction in min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"/>
          <p:cNvGraphicFramePr/>
          <p:nvPr/>
        </p:nvGraphicFramePr>
        <p:xfrm>
          <a:off x="419040" y="2057400"/>
          <a:ext cx="8305920" cy="4419720"/>
        </p:xfrm>
        <a:graphic>
          <a:graphicData uri="http://schemas.openxmlformats.org/drawingml/2006/table">
            <a:tbl>
              <a:tblPr/>
              <a:tblGrid>
                <a:gridCol w="1905120"/>
                <a:gridCol w="2286000"/>
                <a:gridCol w="2209680"/>
                <a:gridCol w="1905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Qual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behavioral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7" name=""/>
          <p:cNvSpPr/>
          <p:nvPr/>
        </p:nvSpPr>
        <p:spPr>
          <a:xfrm>
            <a:off x="6187680" y="6527880"/>
            <a:ext cx="335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2003 trial data: FB &amp; ZF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915840" y="1593720"/>
            <a:ext cx="7313760" cy="82800"/>
          </a:xfrm>
          <a:prstGeom prst="rect">
            <a:avLst/>
          </a:prstGeom>
          <a:ln w="0">
            <a:noFill/>
          </a:ln>
        </p:spPr>
      </p:pic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724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at is the Quality slot used fo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Qual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reat as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Qual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dependent ent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 quality must have </a:t>
            </a:r>
            <a:r>
              <a:rPr b="0" lang="en-US" sz="2000" spc="-1" strike="noStrike">
                <a:solidFill>
                  <a:srgbClr val="ffff00"/>
                </a:solidFill>
                <a:latin typeface="Century Gothic"/>
              </a:rPr>
              <a:t>independent entity(s)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as bear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quality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inheres_in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the bear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xampl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hap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ball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structur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w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leng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this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tai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particular </a:t>
            </a:r>
            <a:r>
              <a:rPr b="0" i="1" lang="en-US" sz="2400" spc="-1" strike="noStrike">
                <a:solidFill>
                  <a:srgbClr val="ffffff"/>
                </a:solidFill>
                <a:latin typeface="Century Gothic"/>
              </a:rPr>
              <a:t>ra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of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synaptic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Century Gothic"/>
              </a:rPr>
              <a:t>transmission</a:t>
            </a:r>
            <a:r>
              <a:rPr b="0" lang="en-US" sz="24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tween these two neur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52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ttribute universals vs Attribute particula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In an EAV annotation, a PATO class ID typically serves  as a proxy for an unnamed attribute instan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Universals (classes) must always be defined in terms of their instance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5" name=""/>
          <p:cNvSpPr/>
          <p:nvPr/>
        </p:nvSpPr>
        <p:spPr>
          <a:xfrm>
            <a:off x="685800" y="5867280"/>
            <a:ext cx="7772400" cy="8384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Formal Theory of Substances, Qualities,  and Univers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bian NEUHAUS Pierre GRENON Barry SMITH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2438280" y="2057400"/>
            <a:ext cx="4038840" cy="227160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2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is the attribute slot used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52280" y="2057400"/>
          <a:ext cx="8839440" cy="4154400"/>
        </p:xfrm>
        <a:graphic>
          <a:graphicData uri="http://schemas.openxmlformats.org/drawingml/2006/table">
            <a:tbl>
              <a:tblPr/>
              <a:tblGrid>
                <a:gridCol w="1752840"/>
                <a:gridCol w="2286000"/>
                <a:gridCol w="2819160"/>
                <a:gridCol w="1981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enotyp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nt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ysplasti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gu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siz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smal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8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2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reti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atter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rai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structu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fu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tm8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d/v pattern forma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qualitati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bnorm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lood isla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rel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number increas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Bs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elongation of arista liter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proces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rres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C-alpha[1D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adult behaviou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d1d1cb"/>
                          </a:solidFill>
                          <a:latin typeface="Courier New"/>
                          <a:ea typeface="Osaka"/>
                        </a:rPr>
                        <a:t>behavioral activ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urier New"/>
                          <a:ea typeface="Osaka"/>
                        </a:rPr>
                        <a:t>uncoordinat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ff"/>
                    </a:solidFill>
                  </a:tcPr>
                </a:tc>
              </a:tr>
            </a:tbl>
          </a:graphicData>
        </a:graphic>
      </p:graphicFrame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8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What is an ontolog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/>
          <p:nvPr/>
        </p:nvSpPr>
        <p:spPr>
          <a:xfrm>
            <a:off x="-88200" y="2322360"/>
            <a:ext cx="9324720" cy="22280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ssociation =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notype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Phenotyp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vironment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Phenotype =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ge*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Entity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Entity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Stag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OBOAnatomicalStage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Attribute = </a:t>
            </a:r>
            <a:r>
              <a:rPr b="0" i="1" lang="en-US" sz="2400" spc="-1" strike="noStrike">
                <a:solidFill>
                  <a:srgbClr val="ffffff"/>
                </a:solidFill>
                <a:latin typeface="Courier New"/>
              </a:rPr>
              <a:t>PATOClass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396760" y="607068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* means zero or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urrent Mode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68580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441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posite phenotype class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mmalian phenotype has composite phenotype class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.g. “reduced B cell number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pose at annotation time or ontology curation tim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lse dichotom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re 2 will help map between composite class based annotation and EAV anno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notations are data record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ypically use class ID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implicitl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refer to insta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w do we map an annotation to instances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mportant for using annotations computation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915840" y="182232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1386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1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42720" y="21337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an EA (or EAV) annotation mea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enotype=“FBal00123” E=“brain” A=“fused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esumed implied meaning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is organis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has_part x, wher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instance_of “brain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has_quality “fused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organism has a fused brain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Various built-in assump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915840" y="152388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610480" cy="48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II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71360"/>
            <a:ext cx="7772400" cy="466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=“FBal00123” E=“wing” A=“absent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ing same mapping as annotation I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ly98 has_part x, wher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instance_of “wing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x has_quality “absent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fly has a wing which is not ther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NOT(this organism has_part x, where x instance_of “wing”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77" name="" descr=""/>
          <p:cNvPicPr/>
          <p:nvPr/>
        </p:nvPicPr>
        <p:blipFill>
          <a:blip r:embed="rId1"/>
          <a:stretch/>
        </p:blipFill>
        <p:spPr>
          <a:xfrm>
            <a:off x="915840" y="163980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-41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terpreting annotations (II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115560" y="1731960"/>
            <a:ext cx="8915400" cy="448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this mean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notatio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Genotype=“FBal00123” E=“wing” A=“absent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using same mapping as annotation 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this organism has_part x, wher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instance_of “wing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x has_quality “absent”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 in natural languag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</a:rPr>
              <a:t>this fly has a wing which is not there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at we really inten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s organism has_quality “wingless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31480" indent="-226080"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ingless” = the property of having count(has_part “wing”)=0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915840" y="135252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7240" y="2044800"/>
            <a:ext cx="77724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re our computational representations intended to capture reality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473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oes this matter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2268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f we simply use the colloquial expression “absent”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 the consequences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asic search will be 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.g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“find all wing phenotypes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gical reasoners will compute incorrect resul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mputers will not be able to reason correctl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 must explicitly provide specific rules for certain attributes such as “absent”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915840" y="171144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687240" y="-522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Osaka"/>
              </a:rPr>
              <a:t>Interpreting annotations (III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34960" y="169704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E=“digit” A=“supernumery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using same interpretation as annotation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x,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instance_of “digi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has_quality “supernumer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  <a:ea typeface="Osaka"/>
              </a:rPr>
              <a:t>this organism has a particular finger which is supernumery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  <a:ea typeface="Osaka"/>
              </a:rPr>
              <a:t>this person has_quality “supernumery finger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supernumery finger” = </a:t>
            </a:r>
            <a:r>
              <a:rPr b="0" i="1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e property of having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 count(has_part “digit”) &gt; wild-typ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915840" y="133020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 (as a branch of philosophy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cience of what exists in every area of re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lassification of entities: what kinds of things exi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relations between these ent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es a scientific field's vocabulary and the canonical formulations of its theori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eks to solve problems which arise in these domain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687240" y="17316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  <a:ea typeface="Osaka"/>
              </a:rPr>
              <a:t>Interpreting annotations (IV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87240" y="1363680"/>
            <a:ext cx="777240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does this me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annot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  <a:ea typeface="Osaka"/>
              </a:rPr>
              <a:t>Gt=“mp001” E=“brown fat cell” A=“increased quantity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using same mapping as annotation 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x, 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instance_of “brown fat cell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x has_quality “increased quantity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or in natural langu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radley Hand ITC TT-Bold"/>
                <a:ea typeface="Osaka"/>
              </a:rPr>
              <a:t>this organism has a particular brown fat cell which is increased in quant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  <a:ea typeface="Osaka"/>
              </a:rPr>
              <a:t>What we really inten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this organism has_part population_of(“brown fat cell”) which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Osaka"/>
              </a:rPr>
              <a:t>has_quality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  <a:ea typeface="Osaka"/>
              </a:rPr>
              <a:t> increased s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915840" y="110808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ther use cas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ermatocyte devoid of ast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omeotic transformatio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creased distance between wing vein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me </a:t>
            </a:r>
            <a:r>
              <a:rPr b="0" i="1" lang="en-US" sz="32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. 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/>
          <a:stretch/>
        </p:blipFill>
        <p:spPr>
          <a:xfrm>
            <a:off x="915840" y="154296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lternate perspectiv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cess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vs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sta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egulatory processes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acidification of midgut has_quality reduced rat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idgut has_quality low acidit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evelopment </a:t>
            </a:r>
            <a:r>
              <a:rPr b="0" i="1" lang="en-US" sz="2000" spc="-1" strike="noStrike">
                <a:solidFill>
                  <a:srgbClr val="ffffff"/>
                </a:solidFill>
                <a:latin typeface="Century Gothic"/>
              </a:rPr>
              <a:t>vs.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behavio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wing development has_quality abnorma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light has_quality intermitten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anularity (scale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hemical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molecular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cell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tissue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vs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anatomical par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"/>
          <a:stretch/>
        </p:blipFill>
        <p:spPr>
          <a:xfrm>
            <a:off x="915840" y="1542960"/>
            <a:ext cx="7313760" cy="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5562720" y="4648320"/>
            <a:ext cx="1371600" cy="53316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y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8120" y="3200400"/>
            <a:ext cx="312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lvl="1" marL="616680" indent="-237240">
              <a:lnSpc>
                <a:spcPct val="10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kind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 of things exis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9960" y="4572000"/>
            <a:ext cx="3200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0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what are the 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relationship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Osaka"/>
              </a:rPr>
              <a:t> between these thing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5520" y="6095880"/>
            <a:ext cx="2286000" cy="53352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mmati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00800" y="3314880"/>
            <a:ext cx="2057400" cy="60948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nse or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3314880"/>
            <a:ext cx="2057400" cy="609480"/>
          </a:xfrm>
          <a:prstGeom prst="rect">
            <a:avLst/>
          </a:prstGeom>
          <a:solidFill>
            <a:srgbClr val="d1d1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ye di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97560" y="413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s_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15760" y="5334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rt_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1400" y="413064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velo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52600" y="3200400"/>
            <a:ext cx="2895480" cy="2314440"/>
          </a:xfrm>
          <a:prstGeom prst="rect">
            <a:avLst/>
          </a:prstGeom>
          <a:ln w="0">
            <a:noFill/>
          </a:ln>
        </p:spPr>
      </p:pic>
      <p:cxnSp>
        <p:nvCxnSpPr>
          <p:cNvPr id="190" name=""/>
          <p:cNvCxnSpPr>
            <a:stCxn id="183" idx="0"/>
            <a:endCxn id="180" idx="2"/>
          </p:cNvCxnSpPr>
          <p:nvPr/>
        </p:nvCxnSpPr>
        <p:spPr>
          <a:xfrm flipV="1">
            <a:off x="6248160" y="5181120"/>
            <a:ext cx="1080" cy="915120"/>
          </a:xfrm>
          <a:prstGeom prst="straightConnector1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0" idx="3"/>
            <a:endCxn id="184" idx="2"/>
          </p:cNvCxnSpPr>
          <p:nvPr/>
        </p:nvCxnSpPr>
        <p:spPr>
          <a:xfrm flipV="1">
            <a:off x="6934320" y="3924000"/>
            <a:ext cx="496080" cy="99144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80" idx="1"/>
            <a:endCxn id="185" idx="2"/>
          </p:cNvCxnSpPr>
          <p:nvPr/>
        </p:nvCxnSpPr>
        <p:spPr>
          <a:xfrm flipH="1" flipV="1">
            <a:off x="5067000" y="3924000"/>
            <a:ext cx="496080" cy="991440"/>
          </a:xfrm>
          <a:prstGeom prst="straightConnector1">
            <a:avLst/>
          </a:prstGeom>
          <a:ln w="57240">
            <a:solidFill>
              <a:srgbClr val="00ff00"/>
            </a:solidFill>
            <a:miter/>
            <a:tailEnd len="med" type="triangle" w="med"/>
          </a:ln>
        </p:spPr>
      </p:cxn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 biological ontology is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machine interpretable representation of some aspect of biological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5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ntity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ything which exists, including things and processes, functions and qualities, beliefs and actions, software and imag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presentation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An image, idea, map, picture, name, description ... which refers to, or is intended to refer to, some entity or entities in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his ‘or is intended to refer to’ should always be assume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ies represent </a:t>
            </a:r>
            <a:r>
              <a:rPr b="1" lang="en-US" sz="4000" spc="-1" strike="noStrike">
                <a:solidFill>
                  <a:srgbClr val="ff8000"/>
                </a:solidFill>
                <a:latin typeface="Century Gothic"/>
              </a:rPr>
              <a:t>types</a:t>
            </a: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 in realit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752480" y="472428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72000" y="2819520"/>
            <a:ext cx="4191120" cy="3276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5292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44760" y="624852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80"/>
                </a:solidFill>
                <a:latin typeface="Century Gothic"/>
              </a:rPr>
              <a:t>re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c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y make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is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ow to create an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gic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echnic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ganizationall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ational Center for Biomedical Ontolo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se study: Phenotypes, our current work on OB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154480" y="3054240"/>
            <a:ext cx="3810240" cy="38102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cientific data represent </a:t>
            </a:r>
            <a:r>
              <a:rPr b="1" lang="en-US" sz="4400" spc="-1" strike="noStrike">
                <a:solidFill>
                  <a:srgbClr val="ff0080"/>
                </a:solidFill>
                <a:latin typeface="Century Gothic"/>
              </a:rPr>
              <a:t>instances</a:t>
            </a: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 in re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4738680" y="1952640"/>
          <a:ext cx="3243240" cy="1476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1952640"/>
                    <a:ext cx="32432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179280" y="3605040"/>
            <a:ext cx="4795920" cy="3252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1162080" y="2057400"/>
            <a:ext cx="2413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Two kinds of representational artifact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atabases, inventories, images: represent what is particular in reality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ff0080"/>
                </a:solidFill>
                <a:latin typeface="Century Gothic"/>
              </a:rPr>
              <a:t>instances</a:t>
            </a:r>
            <a:br>
              <a:rPr sz="3200"/>
            </a:br>
            <a:r>
              <a:rPr b="1" lang="en-US" sz="3200" spc="-1" strike="noStrike">
                <a:solidFill>
                  <a:srgbClr val="ff008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ntologies, terminologies, catalogs: represent what is general in reality (exists in multiple instances)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ff8000"/>
                </a:solidFill>
                <a:latin typeface="Century Gothic"/>
              </a:rPr>
              <a:t>types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(universals, kind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56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ies are </a:t>
            </a:r>
            <a:r>
              <a:rPr b="1" lang="en-US" sz="4000" spc="-1" strike="noStrike">
                <a:solidFill>
                  <a:srgbClr val="ff0000"/>
                </a:solidFill>
                <a:latin typeface="Century Gothic"/>
              </a:rPr>
              <a:t>not</a:t>
            </a: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 for representing concepts in people’s head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52480" y="472428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52920" y="61722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01080" y="2286000"/>
            <a:ext cx="1247400" cy="1905120"/>
            <a:chOff x="901080" y="2286000"/>
            <a:chExt cx="1247400" cy="1905120"/>
          </a:xfrm>
        </p:grpSpPr>
        <p:sp>
          <p:nvSpPr>
            <p:cNvPr id="220" name=""/>
            <p:cNvSpPr/>
            <p:nvPr/>
          </p:nvSpPr>
          <p:spPr>
            <a:xfrm>
              <a:off x="914400" y="3048120"/>
              <a:ext cx="1219320" cy="1143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01080" y="228600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80"/>
                  </a:solidFill>
                  <a:latin typeface="Century Gothic"/>
                </a:rPr>
                <a:t>rea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914400" y="3048120"/>
            <a:ext cx="1219320" cy="11430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720" y="34560"/>
            <a:ext cx="88390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The researcher has a </a:t>
            </a:r>
            <a:r>
              <a:rPr b="0" lang="en-US" sz="3600" spc="-1" strike="noStrike">
                <a:solidFill>
                  <a:srgbClr val="66ffff"/>
                </a:solidFill>
                <a:latin typeface="Century Gothic"/>
              </a:rPr>
              <a:t>cognitive</a:t>
            </a: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66ffff"/>
                </a:solidFill>
                <a:latin typeface="Century Gothic"/>
              </a:rPr>
              <a:t>representation</a:t>
            </a: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 of what is general, based on his knowledge of the science</a:t>
            </a:r>
            <a:endParaRPr b="0" lang="en-US" sz="3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25" name=""/>
          <p:cNvSpPr/>
          <p:nvPr/>
        </p:nvSpPr>
        <p:spPr>
          <a:xfrm>
            <a:off x="1752480" y="4788000"/>
            <a:ext cx="1600200" cy="6858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82720" y="3051000"/>
            <a:ext cx="1218960" cy="11430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852920" y="6124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8000"/>
                </a:solidFill>
                <a:latin typeface="Century Gothic"/>
              </a:rPr>
              <a:t>on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2057400"/>
            <a:ext cx="207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Century Gothic"/>
              </a:rPr>
              <a:t>Cognitive re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066680" y="3886200"/>
            <a:ext cx="38124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0" name=""/>
          <p:cNvCxnSpPr>
            <a:stCxn id="229" idx="4"/>
            <a:endCxn id="231" idx="2"/>
          </p:cNvCxnSpPr>
          <p:nvPr/>
        </p:nvCxnSpPr>
        <p:spPr>
          <a:xfrm flipV="1">
            <a:off x="1447920" y="3390120"/>
            <a:ext cx="838800" cy="76284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2" name=""/>
          <p:cNvSpPr/>
          <p:nvPr/>
        </p:nvSpPr>
        <p:spPr>
          <a:xfrm>
            <a:off x="687960" y="434196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siam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560" y="281952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3048120"/>
            <a:ext cx="38088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"/>
          <p:cNvCxnSpPr>
            <a:stCxn id="231" idx="4"/>
            <a:endCxn id="235" idx="2"/>
          </p:cNvCxnSpPr>
          <p:nvPr/>
        </p:nvCxnSpPr>
        <p:spPr>
          <a:xfrm flipV="1">
            <a:off x="2666520" y="2628360"/>
            <a:ext cx="762840" cy="68652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209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c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7" name=""/>
          <p:cNvCxnSpPr>
            <a:stCxn id="238" idx="4"/>
            <a:endCxn id="239" idx="1"/>
          </p:cNvCxnSpPr>
          <p:nvPr/>
        </p:nvCxnSpPr>
        <p:spPr>
          <a:xfrm>
            <a:off x="7238520" y="418680"/>
            <a:ext cx="343800" cy="1639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cxnSp>
        <p:nvCxnSpPr>
          <p:cNvPr id="240" name=""/>
          <p:cNvCxnSpPr>
            <a:stCxn id="241" idx="4"/>
            <a:endCxn id="238" idx="2"/>
          </p:cNvCxnSpPr>
          <p:nvPr/>
        </p:nvCxnSpPr>
        <p:spPr>
          <a:xfrm flipV="1">
            <a:off x="5867280" y="572760"/>
            <a:ext cx="991440" cy="83880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5107680" y="152388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organis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114444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15228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48520" y="609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sub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91520" y="205740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657600"/>
            <a:ext cx="380880" cy="53352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53280" y="3733920"/>
            <a:ext cx="38124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7" idx="0"/>
            <a:endCxn id="244" idx="1"/>
          </p:cNvCxnSpPr>
          <p:nvPr/>
        </p:nvCxnSpPr>
        <p:spPr>
          <a:xfrm>
            <a:off x="4788000" y="2171520"/>
            <a:ext cx="1651680" cy="1486440"/>
          </a:xfrm>
          <a:prstGeom prst="straightConnector1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248" name=""/>
          <p:cNvCxnSpPr>
            <a:stCxn id="239" idx="4"/>
            <a:endCxn id="245" idx="1"/>
          </p:cNvCxnSpPr>
          <p:nvPr/>
        </p:nvCxnSpPr>
        <p:spPr>
          <a:xfrm>
            <a:off x="7772400" y="2324160"/>
            <a:ext cx="572400" cy="14104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35" name=""/>
          <p:cNvSpPr/>
          <p:nvPr/>
        </p:nvSpPr>
        <p:spPr>
          <a:xfrm>
            <a:off x="3429000" y="2362320"/>
            <a:ext cx="380880" cy="53316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191880"/>
            <a:ext cx="25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8000"/>
                </a:solidFill>
                <a:latin typeface="Century Gothic"/>
              </a:rPr>
              <a:t>typ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1754280"/>
            <a:ext cx="381240" cy="488880"/>
          </a:xfrm>
          <a:prstGeom prst="can">
            <a:avLst>
              <a:gd name="adj" fmla="val 25000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50" idx="4"/>
          </p:cNvCxnSpPr>
          <p:nvPr/>
        </p:nvCxnSpPr>
        <p:spPr>
          <a:xfrm flipV="1">
            <a:off x="4876560" y="1410840"/>
            <a:ext cx="610200" cy="58824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47" name=""/>
          <p:cNvSpPr/>
          <p:nvPr/>
        </p:nvSpPr>
        <p:spPr>
          <a:xfrm>
            <a:off x="4249440" y="2171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ani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endCxn id="250" idx="2"/>
          </p:cNvCxnSpPr>
          <p:nvPr/>
        </p:nvCxnSpPr>
        <p:spPr>
          <a:xfrm flipV="1">
            <a:off x="3809520" y="1998000"/>
            <a:ext cx="686520" cy="631080"/>
          </a:xfrm>
          <a:prstGeom prst="straightConnector1">
            <a:avLst/>
          </a:prstGeom>
          <a:ln w="22320">
            <a:solidFill>
              <a:srgbClr val="ff0000"/>
            </a:solidFill>
            <a:miter/>
          </a:ln>
        </p:spPr>
      </p:cxnSp>
      <p:sp>
        <p:nvSpPr>
          <p:cNvPr id="253" name=""/>
          <p:cNvSpPr/>
          <p:nvPr/>
        </p:nvSpPr>
        <p:spPr>
          <a:xfrm>
            <a:off x="0" y="5029200"/>
            <a:ext cx="9144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0920" y="5403960"/>
            <a:ext cx="275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0080"/>
                </a:solidFill>
                <a:latin typeface="Arial"/>
              </a:rPr>
              <a:t>in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733920" y="54100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791320" y="54388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4724280" y="5410080"/>
            <a:ext cx="838440" cy="80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8077320" y="5410080"/>
            <a:ext cx="838080" cy="809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6934320" y="5438880"/>
            <a:ext cx="838080" cy="8096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383800">
            <a:off x="5984280" y="2249280"/>
            <a:ext cx="912960" cy="5100840"/>
          </a:xfrm>
          <a:custGeom>
            <a:avLst/>
            <a:gdLst>
              <a:gd name="textAreaLeft" fmla="*/ 583200 w 912960"/>
              <a:gd name="textAreaRight" fmla="*/ 913320 w 912960"/>
              <a:gd name="textAreaTop" fmla="*/ 132840 h 5100840"/>
              <a:gd name="textAreaBottom" fmla="*/ 4968000 h 510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86b5d">
              <a:alpha val="50000"/>
            </a:srgbClr>
          </a:solidFill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478560" y="41148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8000"/>
                </a:solidFill>
                <a:latin typeface="Arial"/>
              </a:rPr>
              <a:t>fr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An ontology is like a scientific text;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Century Gothic"/>
              </a:rPr>
              <a:t>it is a representation of types in reality</a:t>
            </a:r>
            <a:endParaRPr b="0" lang="en-US" sz="3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610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33520" y="2819520"/>
            <a:ext cx="8229600" cy="329220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990720" y="4788000"/>
            <a:ext cx="3114720" cy="2345400"/>
            <a:chOff x="990720" y="4788000"/>
            <a:chExt cx="3114720" cy="2345400"/>
          </a:xfrm>
        </p:grpSpPr>
        <p:sp>
          <p:nvSpPr>
            <p:cNvPr id="266" name=""/>
            <p:cNvSpPr/>
            <p:nvPr/>
          </p:nvSpPr>
          <p:spPr>
            <a:xfrm>
              <a:off x="1747800" y="4788000"/>
              <a:ext cx="1600200" cy="6858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90720" y="6124680"/>
              <a:ext cx="3114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8000"/>
                  </a:solidFill>
                  <a:latin typeface="Century Gothic"/>
                </a:rPr>
                <a:t>Ontology = a representation of typ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57200" y="2057400"/>
            <a:ext cx="2070000" cy="2136600"/>
            <a:chOff x="457200" y="2057400"/>
            <a:chExt cx="2070000" cy="2136600"/>
          </a:xfrm>
        </p:grpSpPr>
        <p:sp>
          <p:nvSpPr>
            <p:cNvPr id="269" name=""/>
            <p:cNvSpPr/>
            <p:nvPr/>
          </p:nvSpPr>
          <p:spPr>
            <a:xfrm>
              <a:off x="882720" y="3051000"/>
              <a:ext cx="1218960" cy="114300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2057400"/>
              <a:ext cx="2070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ffff"/>
                  </a:solidFill>
                  <a:latin typeface="Century Gothic"/>
                </a:rPr>
                <a:t>Cognitive represent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23720" y="2819520"/>
            <a:ext cx="5639400" cy="3827880"/>
            <a:chOff x="3123720" y="2819520"/>
            <a:chExt cx="5639400" cy="3827880"/>
          </a:xfrm>
        </p:grpSpPr>
        <p:sp>
          <p:nvSpPr>
            <p:cNvPr id="272" name=""/>
            <p:cNvSpPr/>
            <p:nvPr/>
          </p:nvSpPr>
          <p:spPr>
            <a:xfrm>
              <a:off x="4572000" y="2819520"/>
              <a:ext cx="4191120" cy="3276360"/>
            </a:xfrm>
            <a:prstGeom prst="roundRect">
              <a:avLst>
                <a:gd name="adj" fmla="val 16667"/>
              </a:avLst>
            </a:prstGeom>
            <a:noFill/>
            <a:ln w="57240">
              <a:solidFill>
                <a:srgbClr val="ff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044760" y="6248520"/>
              <a:ext cx="1247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80"/>
                  </a:solidFill>
                  <a:latin typeface="Century Gothic"/>
                </a:rPr>
                <a:t>real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3123720" y="4419720"/>
              <a:ext cx="1752840" cy="609480"/>
            </a:xfrm>
            <a:prstGeom prst="line">
              <a:avLst/>
            </a:prstGeom>
            <a:ln w="127080">
              <a:solidFill>
                <a:srgbClr val="ff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tomic representational unit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rms, icons, bar codes, alphanumeric identifiers ... which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31960" indent="-415800">
              <a:spcBef>
                <a:spcPts val="601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fer, or are intended to refer, to entities in reality, an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31960" indent="-415800">
              <a:spcBef>
                <a:spcPts val="601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re not built out of further sub-represent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8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85280" indent="-4852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presentational units are the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atom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 in the domain of represent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Modular representational unit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presentation which is built out of other representational units, which together form a structure that mirrors a corresponding structure in re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35600" cy="56754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rcRect l="0" t="2707" r="0" b="3758"/>
          <a:stretch/>
        </p:blipFill>
        <p:spPr>
          <a:xfrm>
            <a:off x="762120" y="723960"/>
            <a:ext cx="7772400" cy="560052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686b5d"/>
                </a:solidFill>
                <a:latin typeface="Century Gothic"/>
              </a:rPr>
              <a:t>Periodic Table</a:t>
            </a:r>
            <a:endParaRPr b="0" lang="en-US" sz="9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2" name=""/>
          <p:cNvSpPr/>
          <p:nvPr/>
        </p:nvSpPr>
        <p:spPr>
          <a:xfrm>
            <a:off x="2684880" y="49320"/>
            <a:ext cx="37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cb9"/>
                </a:solidFill>
                <a:latin typeface="Arial"/>
              </a:rPr>
              <a:t>The Periodic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Century Gothic"/>
              </a:rPr>
              <a:t>Ontology: a defini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01480" indent="-5014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A modular, representational artifact whose representational units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intended to represe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59320" indent="-42948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ypes in realit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59320" indent="-42948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relations between these types which are true universally (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.e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for all instances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7520" indent="-357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ung is_a anatomical structu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217520" indent="-357840">
              <a:lnSpc>
                <a:spcPct val="90000"/>
              </a:lnSpc>
              <a:spcBef>
                <a:spcPts val="601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be of lung part_of lu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864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Why make an ontology?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is the motivation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create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1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logic and scie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5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n computer science, there is an information handling problem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fferent groups of data-gatherers develop their own idiosyncratic terms in which they represent information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o put this information together, methods must be found to resolve terminological and conceptual incompatibilitie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gain, and again, and again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Century Gothic"/>
              </a:rPr>
              <a:t>The Reality</a:t>
            </a:r>
            <a:endParaRPr b="0" lang="en-US" sz="66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not assume that data integration can be brought about by somehow ‘mapping’ incompatible, low quality ontologies built for different purpo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wo flavors of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pplication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ference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pplicatio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 </a:t>
            </a:r>
            <a:r>
              <a:rPr b="1" lang="en-US" sz="3200" spc="-1" strike="noStrike">
                <a:solidFill>
                  <a:srgbClr val="66ffff"/>
                </a:solidFill>
                <a:latin typeface="Century Gothic"/>
              </a:rPr>
              <a:t>application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ontology is comparable to an engineering artifact such as a software tool. It is constructed for specific practical purposes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eference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</a:t>
            </a:r>
            <a:r>
              <a:rPr b="1" lang="en-US" sz="3200" spc="-1" strike="noStrike">
                <a:solidFill>
                  <a:srgbClr val="66ffff"/>
                </a:solidFill>
                <a:latin typeface="Century Gothic"/>
              </a:rPr>
              <a:t>reference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ontology is analogous to a scientific theory; it seeks to optimize representational adequacy to its subject matte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re are best practices in ontology development which should be followed to create stable high-quality ontologi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hared high quality ontologies foster cross-disciplinary and cross-domain re-use of data, and create larger communit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40" y="-21096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y do we need rules/standards for good ontology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3720" y="1685520"/>
            <a:ext cx="8839080" cy="642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ies must be intelligible both to humans (for annotation) and to machines (for reasoning and error-checkin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ntuitive rules lead to errors in classif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mple, intuitive rules facilitate training of curators and annotato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on rules allow alignment with other ontologies (and thus cross-domain exploitation of data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ogically coherent rules enhance harvesting of content through automatic reasoning system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40" y="677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ies built according to common logically coherent rul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50020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ill make entry easier and yield a safer growth pat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 can start small, annotating your data with initial fragments of a well-founded ontology, confident that the results will still be usable when the ontology grows larger and rich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BO Foundr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77400" y="2160360"/>
            <a:ext cx="899172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subset of OBO ontologies whose developers agree in advance to accept a common set of principles designed to assur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5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lligibility to biologist curators, annotators, use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mal robustnes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tabi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ompatibi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teroperability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upport for logic-based reason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"/>
          <p:cNvSpPr/>
          <p:nvPr/>
        </p:nvSpPr>
        <p:spPr>
          <a:xfrm>
            <a:off x="1854000" y="51804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Problem(s) with data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accessibility of widely distributed dat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ver abundance of informatio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peed and performanc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erpreting the data syntactic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terpreting the data semanticall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534600" y="1968480"/>
            <a:ext cx="8077320" cy="55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open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nd available to be used by all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developers of the ontology agree in advance to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ollaborat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with developers of other OBO Foundry ontology where domains overlap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in, or can be instantiated in, a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ommon formal languag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possesses a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unique identifier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pace within OBO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provider has procedures for identifying distinct successiv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versi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"/>
          <p:cNvSpPr/>
          <p:nvPr/>
        </p:nvSpPr>
        <p:spPr>
          <a:xfrm>
            <a:off x="1873080" y="47340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687240" y="1968480"/>
            <a:ext cx="77724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has a clearly specified and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clearly delineated cont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nclude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textual definitions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 all ter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well-documented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has a plurality of independent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user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33520" indent="-533520">
              <a:spcBef>
                <a:spcPts val="601"/>
              </a:spcBef>
              <a:buClr>
                <a:srgbClr val="66ffcc"/>
              </a:buClr>
              <a:buFont typeface="Century Gothic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ontology uses relations which are unambiguously defined following the pattern of definitions laid down in th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OBO Relation Ontology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1" name=""/>
          <p:cNvSpPr/>
          <p:nvPr/>
        </p:nvSpPr>
        <p:spPr>
          <a:xfrm>
            <a:off x="1873080" y="473400"/>
            <a:ext cx="54655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The OBO Found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rthogonal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ntology groups who choose to be part of the OBO Foundry thereby </a:t>
            </a:r>
            <a:r>
              <a:rPr b="0" lang="en-US" sz="3200" spc="-1" strike="noStrike">
                <a:solidFill>
                  <a:srgbClr val="80ff00"/>
                </a:solidFill>
                <a:latin typeface="Century Gothic"/>
              </a:rPr>
              <a:t>commit themselves to collaborating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to resolve disagreements which arise where their respective domains overlap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"/>
          <p:cNvSpPr/>
          <p:nvPr/>
        </p:nvSpPr>
        <p:spPr>
          <a:xfrm>
            <a:off x="2181600" y="518040"/>
            <a:ext cx="479484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Orthogon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success of ontology alignment demands that ontological relations (</a:t>
            </a:r>
            <a:r>
              <a:rPr b="0" i="1" lang="en-US" sz="2800" spc="-1" strike="noStrike">
                <a:solidFill>
                  <a:srgbClr val="ffffff"/>
                </a:solidFill>
                <a:latin typeface="Century Gothic"/>
              </a:rPr>
              <a:t>is_a, part_of, ...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) have the same meanings in the different ontologies to be aligned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e “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Relations in Biomedical Ontologi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”, Genome Biology May 2005, Barry Smith , Werner Ceusters, Bert Klagges, Jacob Köhler, Anand Kumar, Jane Lomax, Chris Mungall, Fabian Neuhaus, Alan L Rector,  and Cornelius Ros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518040"/>
            <a:ext cx="7470720" cy="101844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Copperplate Gothic Bold"/>
              </a:rPr>
              <a:t>agreed on rel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9304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Three fundamental dichotomie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72760" y="1898280"/>
            <a:ext cx="800244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continuants vs. occurrent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dependent vs. independent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lvl="2" marL="1085760" indent="0" algn="ctr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types vs. instance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"/>
          <p:cNvSpPr/>
          <p:nvPr/>
        </p:nvSpPr>
        <p:spPr>
          <a:xfrm>
            <a:off x="496800" y="3930480"/>
            <a:ext cx="8153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ONTOLOGIES ARE REPRESENTATIVES OF TYP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IN REA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For example in the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Molecules, cell components , organism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independent continuants which have func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Function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dependent continuants which become realized through special sorts of processes we call functioning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Processes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are occurrents include: functionings, side-effects, stochastic process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c66"/>
                </a:solidFill>
                <a:latin typeface="Century Gothic"/>
              </a:rPr>
              <a:t>Continuants (aka endurants)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7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have continuous existence in tim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preserve their identity through chan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exist in toto whenever they exist at al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66"/>
                </a:solidFill>
                <a:latin typeface="Century Gothic"/>
              </a:rPr>
              <a:t>Occurrents (aka processes)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have temporal par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entury Gothic"/>
              </a:rPr>
              <a:t>unfold themselves in successive pha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ist only in their pha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ntinuants vs. Occurre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atomy vs. Physi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napshot vs. Vide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ocks vs. Flow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odities vs. Servic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roducts vs. Process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pendent entit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747880"/>
            <a:ext cx="7772400" cy="33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quire independent continuants as their bearer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re is no grin without a c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e started the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develop a shared language adequate for the annotation of molecular characteristics across organism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agree on a mutual understanding of the definition and meaning of any word used. and thus to support cross-database queries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provide database access via these common terms to gene product annotations and associated sequences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pendent vs. independent continuant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ndependent continuants (organisms, cells, molecules, environment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ependent continuants (qualities, shapes, roles, propensities, functions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27720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.g. the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acidity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of this gu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All occurrents are dependent entities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469960"/>
            <a:ext cx="7772400" cy="36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y are dependent on those independent continuants which are their participants (agents, patients, media ...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GO’s three ontologi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>
            <a:off x="412920" y="1447920"/>
            <a:ext cx="2145960" cy="23335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lecular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1680" y="3962520"/>
            <a:ext cx="2602080" cy="2332080"/>
          </a:xfrm>
          <a:prstGeom prst="ellipse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compon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361200" y="1371600"/>
            <a:ext cx="2369880" cy="2486160"/>
          </a:xfrm>
          <a:prstGeom prst="ellipse">
            <a:avLst/>
          </a:prstGeom>
          <a:solidFill>
            <a:srgbClr val="8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iological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066680" y="2386080"/>
            <a:ext cx="7848720" cy="2974320"/>
            <a:chOff x="1066680" y="2386080"/>
            <a:chExt cx="7848720" cy="2974320"/>
          </a:xfrm>
        </p:grpSpPr>
        <p:sp>
          <p:nvSpPr>
            <p:cNvPr id="340" name=""/>
            <p:cNvSpPr/>
            <p:nvPr/>
          </p:nvSpPr>
          <p:spPr>
            <a:xfrm>
              <a:off x="3087720" y="23860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pen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490068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  <a:ea typeface="Arial"/>
                </a:rPr>
                <a:t>independ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066680" y="3428640"/>
              <a:ext cx="3505320" cy="152388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 flipV="1">
              <a:off x="4571640" y="3428640"/>
              <a:ext cx="3429000" cy="1219320"/>
            </a:xfrm>
            <a:prstGeom prst="line">
              <a:avLst/>
            </a:prstGeom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219320" y="1295280"/>
            <a:ext cx="6933960" cy="4190760"/>
            <a:chOff x="1219320" y="1295280"/>
            <a:chExt cx="6933960" cy="4190760"/>
          </a:xfrm>
        </p:grpSpPr>
        <p:sp>
          <p:nvSpPr>
            <p:cNvPr id="345" name=""/>
            <p:cNvSpPr/>
            <p:nvPr/>
          </p:nvSpPr>
          <p:spPr>
            <a:xfrm>
              <a:off x="1219320" y="426708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tinua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029200" y="1447920"/>
              <a:ext cx="16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occure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72000" y="1295280"/>
              <a:ext cx="0" cy="213372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 flipV="1">
              <a:off x="4572000" y="3428640"/>
              <a:ext cx="3581280" cy="2057400"/>
            </a:xfrm>
            <a:prstGeom prst="line">
              <a:avLst/>
            </a:prstGeom>
            <a:ln w="572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812880" y="2523960"/>
            <a:ext cx="7416720" cy="1810080"/>
            <a:chOff x="812880" y="2523960"/>
            <a:chExt cx="7416720" cy="1810080"/>
          </a:xfrm>
        </p:grpSpPr>
        <p:sp>
          <p:nvSpPr>
            <p:cNvPr id="350" name=""/>
            <p:cNvSpPr/>
            <p:nvPr/>
          </p:nvSpPr>
          <p:spPr>
            <a:xfrm>
              <a:off x="812880" y="2523960"/>
              <a:ext cx="1820880" cy="18082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a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56160" y="2523960"/>
              <a:ext cx="1834920" cy="180828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442200" y="2523960"/>
              <a:ext cx="1787400" cy="1810080"/>
            </a:xfrm>
            <a:prstGeom prst="ellipse">
              <a:avLst/>
            </a:prstGeom>
            <a:solidFill>
              <a:srgbClr val="ff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-lev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logi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un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808200" y="4692600"/>
            <a:ext cx="7414920" cy="1808280"/>
            <a:chOff x="808200" y="4692600"/>
            <a:chExt cx="7414920" cy="1808280"/>
          </a:xfrm>
        </p:grpSpPr>
        <p:sp>
          <p:nvSpPr>
            <p:cNvPr id="354" name=""/>
            <p:cNvSpPr/>
            <p:nvPr/>
          </p:nvSpPr>
          <p:spPr>
            <a:xfrm>
              <a:off x="808200" y="4692600"/>
              <a:ext cx="182880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583080" y="4692600"/>
              <a:ext cx="198108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 componen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448320" y="4692600"/>
              <a:ext cx="1774800" cy="1808280"/>
            </a:xfrm>
            <a:prstGeom prst="ellipse">
              <a:avLst/>
            </a:prstGeom>
            <a:solidFill>
              <a:srgbClr val="66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816120" y="357120"/>
            <a:ext cx="7402320" cy="1809720"/>
            <a:chOff x="816120" y="357120"/>
            <a:chExt cx="7402320" cy="1809720"/>
          </a:xfrm>
        </p:grpSpPr>
        <p:sp>
          <p:nvSpPr>
            <p:cNvPr id="358" name=""/>
            <p:cNvSpPr/>
            <p:nvPr/>
          </p:nvSpPr>
          <p:spPr>
            <a:xfrm>
              <a:off x="816120" y="357120"/>
              <a:ext cx="1814400" cy="1808280"/>
            </a:xfrm>
            <a:prstGeom prst="ellipse">
              <a:avLst/>
            </a:prstGeom>
            <a:solidFill>
              <a:srgbClr val="8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lecular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25920" y="357120"/>
              <a:ext cx="1893960" cy="1808280"/>
            </a:xfrm>
            <a:prstGeom prst="ellipse">
              <a:avLst/>
            </a:prstGeom>
            <a:solidFill>
              <a:srgbClr val="8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ellul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450120" y="357120"/>
              <a:ext cx="1768320" cy="1809720"/>
            </a:xfrm>
            <a:prstGeom prst="ellipse">
              <a:avLst/>
            </a:prstGeom>
            <a:solidFill>
              <a:srgbClr val="8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ganism-leve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ological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973080" y="1752480"/>
            <a:ext cx="7216920" cy="398880"/>
            <a:chOff x="973080" y="1752480"/>
            <a:chExt cx="7216920" cy="398880"/>
          </a:xfrm>
        </p:grpSpPr>
        <p:sp>
          <p:nvSpPr>
            <p:cNvPr id="362" name=""/>
            <p:cNvSpPr/>
            <p:nvPr/>
          </p:nvSpPr>
          <p:spPr>
            <a:xfrm>
              <a:off x="6478560" y="1752480"/>
              <a:ext cx="1711440" cy="398880"/>
            </a:xfrm>
            <a:prstGeom prst="rect">
              <a:avLst/>
            </a:prstGeom>
            <a:solidFill>
              <a:srgbClr val="686b5d">
                <a:alpha val="8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tioning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973080" y="1752480"/>
              <a:ext cx="4512600" cy="398880"/>
              <a:chOff x="973080" y="1752480"/>
              <a:chExt cx="4512600" cy="398880"/>
            </a:xfrm>
          </p:grpSpPr>
          <p:sp>
            <p:nvSpPr>
              <p:cNvPr id="364" name=""/>
              <p:cNvSpPr/>
              <p:nvPr/>
            </p:nvSpPr>
            <p:spPr>
              <a:xfrm>
                <a:off x="973080" y="1752480"/>
                <a:ext cx="1711440" cy="398880"/>
              </a:xfrm>
              <a:prstGeom prst="rect">
                <a:avLst/>
              </a:prstGeom>
              <a:solidFill>
                <a:srgbClr val="686b5d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774240" y="1752480"/>
                <a:ext cx="1711440" cy="398880"/>
              </a:xfrm>
              <a:prstGeom prst="rect">
                <a:avLst/>
              </a:prstGeom>
              <a:solidFill>
                <a:srgbClr val="686b5d">
                  <a:alpha val="8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functioning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"/>
          <p:cNvGrpSpPr/>
          <p:nvPr/>
        </p:nvGrpSpPr>
        <p:grpSpPr>
          <a:xfrm>
            <a:off x="1722600" y="1980720"/>
            <a:ext cx="5611680" cy="838440"/>
            <a:chOff x="1722600" y="1980720"/>
            <a:chExt cx="5611680" cy="838440"/>
          </a:xfrm>
        </p:grpSpPr>
        <p:sp>
          <p:nvSpPr>
            <p:cNvPr id="367" name=""/>
            <p:cNvSpPr/>
            <p:nvPr/>
          </p:nvSpPr>
          <p:spPr>
            <a:xfrm flipV="1">
              <a:off x="1722600" y="1980720"/>
              <a:ext cx="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4280" y="1980720"/>
              <a:ext cx="0" cy="7621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573440" y="1980720"/>
              <a:ext cx="0" cy="8384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"/>
          <p:cNvSpPr/>
          <p:nvPr/>
        </p:nvSpPr>
        <p:spPr>
          <a:xfrm>
            <a:off x="7846920" y="202572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Pumping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850160" y="3962520"/>
            <a:ext cx="12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To pump blo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939080" y="624852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e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BO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pper Biomedical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1298520" y="1523880"/>
            <a:ext cx="2557440" cy="106848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: 3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419800" y="1528920"/>
            <a:ext cx="2509920" cy="106344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current: 4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04920" y="3033720"/>
            <a:ext cx="198900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687760" y="3033720"/>
            <a:ext cx="163332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pen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tinu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01720" y="4352760"/>
            <a:ext cx="156348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75080" y="4363920"/>
            <a:ext cx="156528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324320" y="4356000"/>
            <a:ext cx="149220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ati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g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700520" y="3033720"/>
            <a:ext cx="1989360" cy="81756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10560" y="3033720"/>
            <a:ext cx="1776240" cy="1257120"/>
          </a:xfrm>
          <a:prstGeom prst="rect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de-Effec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ochas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ss,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83" name=""/>
          <p:cNvCxnSpPr>
            <a:stCxn id="374" idx="2"/>
            <a:endCxn id="376" idx="0"/>
          </p:cNvCxnSpPr>
          <p:nvPr/>
        </p:nvCxnSpPr>
        <p:spPr>
          <a:xfrm flipH="1">
            <a:off x="1298160" y="2592360"/>
            <a:ext cx="128016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4" name=""/>
          <p:cNvCxnSpPr>
            <a:stCxn id="374" idx="2"/>
            <a:endCxn id="377" idx="0"/>
          </p:cNvCxnSpPr>
          <p:nvPr/>
        </p:nvCxnSpPr>
        <p:spPr>
          <a:xfrm>
            <a:off x="2577600" y="2592360"/>
            <a:ext cx="92628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"/>
          <p:cNvCxnSpPr>
            <a:stCxn id="375" idx="2"/>
            <a:endCxn id="381" idx="0"/>
          </p:cNvCxnSpPr>
          <p:nvPr/>
        </p:nvCxnSpPr>
        <p:spPr>
          <a:xfrm flipH="1">
            <a:off x="5694120" y="2592360"/>
            <a:ext cx="97992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6" name=""/>
          <p:cNvCxnSpPr>
            <a:stCxn id="375" idx="2"/>
            <a:endCxn id="382" idx="0"/>
          </p:cNvCxnSpPr>
          <p:nvPr/>
        </p:nvCxnSpPr>
        <p:spPr>
          <a:xfrm>
            <a:off x="6673320" y="2592360"/>
            <a:ext cx="1126440" cy="442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7" name=""/>
          <p:cNvCxnSpPr>
            <a:stCxn id="377" idx="2"/>
            <a:endCxn id="378" idx="0"/>
          </p:cNvCxnSpPr>
          <p:nvPr/>
        </p:nvCxnSpPr>
        <p:spPr>
          <a:xfrm flipH="1">
            <a:off x="1582200" y="3850920"/>
            <a:ext cx="1921680" cy="5018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8" name=""/>
          <p:cNvCxnSpPr>
            <a:stCxn id="377" idx="2"/>
            <a:endCxn id="379" idx="0"/>
          </p:cNvCxnSpPr>
          <p:nvPr/>
        </p:nvCxnSpPr>
        <p:spPr>
          <a:xfrm flipH="1">
            <a:off x="3357000" y="3851280"/>
            <a:ext cx="146520" cy="5133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9" name=""/>
          <p:cNvCxnSpPr>
            <a:stCxn id="377" idx="2"/>
            <a:endCxn id="380" idx="0"/>
          </p:cNvCxnSpPr>
          <p:nvPr/>
        </p:nvCxnSpPr>
        <p:spPr>
          <a:xfrm>
            <a:off x="3503160" y="3851280"/>
            <a:ext cx="1567800" cy="505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390" name=""/>
          <p:cNvSpPr/>
          <p:nvPr/>
        </p:nvSpPr>
        <p:spPr>
          <a:xfrm>
            <a:off x="0" y="5486400"/>
            <a:ext cx="9448920" cy="0"/>
          </a:xfrm>
          <a:prstGeom prst="line">
            <a:avLst/>
          </a:prstGeom>
          <a:ln w="572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57200" y="5791320"/>
            <a:ext cx="8137440" cy="215280"/>
            <a:chOff x="457200" y="5791320"/>
            <a:chExt cx="8137440" cy="215280"/>
          </a:xfrm>
        </p:grpSpPr>
        <p:sp>
          <p:nvSpPr>
            <p:cNvPr id="392" name=""/>
            <p:cNvSpPr/>
            <p:nvPr/>
          </p:nvSpPr>
          <p:spPr>
            <a:xfrm>
              <a:off x="45720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7360" y="57913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8272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95480" y="5797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324080" y="5794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539720" y="580032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39880" y="5800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65240" y="580356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178000" y="58068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454120" y="58165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5428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7964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92400" y="58226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32100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65440" y="581004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765600" y="58100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9096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203720" y="58165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432320" y="581328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48320" y="581940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48120" y="581940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73480" y="58226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86240" y="582588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62720" y="583524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62520" y="583524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8788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20064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42924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721560" y="583848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21360" y="5838480"/>
              <a:ext cx="15264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147080" y="584172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359480" y="584496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8080" y="584172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04080" y="5848200"/>
              <a:ext cx="15264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004240" y="584820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229600" y="5851440"/>
              <a:ext cx="152280" cy="15192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42360" y="5854320"/>
              <a:ext cx="152280" cy="152280"/>
            </a:xfrm>
            <a:prstGeom prst="plus">
              <a:avLst>
                <a:gd name="adj" fmla="val 25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1143000" y="5943600"/>
            <a:ext cx="6324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tances (in space and time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create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2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echnical asp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644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eparate the Database from the Ontology 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extensi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genera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reasona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r interoperabilit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y ontologies are worth i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nimize database maintenance co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cation between research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 well 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tter query faciliti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ility to draw inferenc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tect correla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acilitate computational interpretation of tex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more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Before: domain knowledge is embedded in the db </a:t>
            </a: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schema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2352600" y="1981080"/>
            <a:ext cx="4438800" cy="411480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4309560" y="213372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Ge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45200" y="385920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59600" y="2868480"/>
            <a:ext cx="94284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Ex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162680" y="4925880"/>
            <a:ext cx="124740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Prot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Embedding domain knowledge in the db schema is expensive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 logical description and the physical database description of the biology are co-mingl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fore new biological knowledge will force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chema changes: e.g. new tab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Query changes: that explicitly refer to tabl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iddleware changes: to retrieve and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UI changes: to displa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40" y="277920"/>
            <a:ext cx="9144000" cy="63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After: domain knowledge is embedded in the </a:t>
            </a:r>
            <a:r>
              <a:rPr b="0" lang="en-US" sz="4000" spc="-1" strike="noStrike">
                <a:solidFill>
                  <a:srgbClr val="ffff00"/>
                </a:solidFill>
                <a:latin typeface="Century Gothic"/>
              </a:rPr>
              <a:t>ontology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5130720" cy="411480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1895760" y="3260880"/>
            <a:ext cx="1247400" cy="703800"/>
          </a:xfrm>
          <a:prstGeom prst="rect">
            <a:avLst/>
          </a:prstGeom>
          <a:solidFill>
            <a:srgbClr val="9090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fea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entury Gothic"/>
              </a:rPr>
              <a:t>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2"/>
          <a:srcRect l="12006" t="0" r="19199" b="0"/>
          <a:stretch/>
        </p:blipFill>
        <p:spPr>
          <a:xfrm>
            <a:off x="4564080" y="2352600"/>
            <a:ext cx="4579920" cy="4505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5456160" y="2438280"/>
            <a:ext cx="792360" cy="43200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1160" y="3449520"/>
            <a:ext cx="1225440" cy="36036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94600" y="4513320"/>
            <a:ext cx="792000" cy="287280"/>
          </a:xfrm>
          <a:prstGeom prst="ellipse">
            <a:avLst/>
          </a:prstGeom>
          <a:noFill/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7" idx="3"/>
            <a:endCxn id="449" idx="3"/>
          </p:cNvCxnSpPr>
          <p:nvPr/>
        </p:nvCxnSpPr>
        <p:spPr>
          <a:xfrm flipV="1">
            <a:off x="3047760" y="2824920"/>
            <a:ext cx="2524680" cy="786600"/>
          </a:xfrm>
          <a:prstGeom prst="curvedConnector2">
            <a:avLst/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7" idx="3"/>
            <a:endCxn id="450" idx="3"/>
          </p:cNvCxnSpPr>
          <p:nvPr/>
        </p:nvCxnSpPr>
        <p:spPr>
          <a:xfrm>
            <a:off x="3048120" y="3611160"/>
            <a:ext cx="2993040" cy="165960"/>
          </a:xfrm>
          <a:prstGeom prst="curvedConnector5">
            <a:avLst>
              <a:gd name="adj1" fmla="val 46998"/>
              <a:gd name="adj2" fmla="val 129130"/>
              <a:gd name="adj3" fmla="val 46998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  <p:cxnSp>
        <p:nvCxnSpPr>
          <p:cNvPr id="454" name=""/>
          <p:cNvCxnSpPr>
            <a:stCxn id="447" idx="3"/>
            <a:endCxn id="451" idx="3"/>
          </p:cNvCxnSpPr>
          <p:nvPr/>
        </p:nvCxnSpPr>
        <p:spPr>
          <a:xfrm>
            <a:off x="3047760" y="3611160"/>
            <a:ext cx="3362760" cy="1166040"/>
          </a:xfrm>
          <a:prstGeom prst="curvedConnector5">
            <a:avLst>
              <a:gd name="adj1" fmla="val 48244"/>
              <a:gd name="adj2" fmla="val 60809"/>
              <a:gd name="adj3" fmla="val 48244"/>
            </a:avLst>
          </a:prstGeom>
          <a:ln w="38160">
            <a:solidFill>
              <a:srgbClr val="ffcc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Century Gothic"/>
              </a:rPr>
              <a:t>Ontology driven db schema is less expensive to maintain</a:t>
            </a:r>
            <a:endParaRPr b="0" lang="en-US" sz="40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logical description and the physical database description of the biology are developed independentl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refore new biological knowledge will only require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tology changes: e.g. new ter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UI changes: displa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schema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query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entury Gothic"/>
              </a:rPr>
              <a:t>No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middleware change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5105520" y="509760"/>
            <a:ext cx="3657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Reality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ultimately this is what the ontology must reflec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4114800" y="647640"/>
            <a:ext cx="4390920" cy="5562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cxnSp>
        <p:nvCxnSpPr>
          <p:cNvPr id="461" name=""/>
          <p:cNvCxnSpPr>
            <a:stCxn id="460" idx="0"/>
            <a:endCxn id="459" idx="0"/>
          </p:cNvCxnSpPr>
          <p:nvPr/>
        </p:nvCxnSpPr>
        <p:spPr>
          <a:xfrm flipH="1" rot="16200000">
            <a:off x="4114800" y="-1549080"/>
            <a:ext cx="138600" cy="4253760"/>
          </a:xfrm>
          <a:prstGeom prst="curvedConnector5">
            <a:avLst>
              <a:gd name="adj1" fmla="val -165364"/>
              <a:gd name="adj2" fmla="val 49995"/>
              <a:gd name="adj3" fmla="val -165364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62" name=""/>
          <p:cNvSpPr/>
          <p:nvPr/>
        </p:nvSpPr>
        <p:spPr>
          <a:xfrm>
            <a:off x="5486400" y="6858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Build an ontology that reflects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912960" y="3833640"/>
            <a:ext cx="2286000" cy="2514600"/>
          </a:xfrm>
          <a:prstGeom prst="flowChartMagneticDisk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IDs ser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 proxi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st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038480" y="509760"/>
            <a:ext cx="4724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Observations and experimen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4038480"/>
            <a:ext cx="472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tient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equence acce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Genetic strain I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7" name=""/>
          <p:cNvCxnSpPr>
            <a:stCxn id="464" idx="1"/>
            <a:endCxn id="463" idx="2"/>
          </p:cNvCxnSpPr>
          <p:nvPr/>
        </p:nvCxnSpPr>
        <p:spPr>
          <a:xfrm flipH="1" flipV="1" rot="10800000">
            <a:off x="637200" y="1916640"/>
            <a:ext cx="275400" cy="3174120"/>
          </a:xfrm>
          <a:prstGeom prst="curvedConnector5">
            <a:avLst>
              <a:gd name="adj1" fmla="val -160602"/>
              <a:gd name="adj2" fmla="val 50000"/>
              <a:gd name="adj3" fmla="val -160602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68" name=""/>
          <p:cNvSpPr/>
          <p:nvPr/>
        </p:nvSpPr>
        <p:spPr>
          <a:xfrm>
            <a:off x="38088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ep 2: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12960" y="3833640"/>
            <a:ext cx="2286000" cy="2514600"/>
          </a:xfrm>
          <a:prstGeom prst="flowChartMagneticDisk">
            <a:avLst/>
          </a:prstGeom>
          <a:solidFill>
            <a:srgbClr val="90908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ataba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IDs ser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s proxies f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stanc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114800" y="647640"/>
            <a:ext cx="4390920" cy="556272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38280" y="509760"/>
            <a:ext cx="2836800" cy="2814480"/>
          </a:xfrm>
          <a:prstGeom prst="rect">
            <a:avLst/>
          </a:prstGeom>
          <a:ln w="0">
            <a:noFill/>
          </a:ln>
        </p:spPr>
      </p:pic>
      <p:cxnSp>
        <p:nvCxnSpPr>
          <p:cNvPr id="472" name=""/>
          <p:cNvCxnSpPr>
            <a:stCxn id="471" idx="1"/>
            <a:endCxn id="469" idx="2"/>
          </p:cNvCxnSpPr>
          <p:nvPr/>
        </p:nvCxnSpPr>
        <p:spPr>
          <a:xfrm flipH="1" flipV="1" rot="10800000">
            <a:off x="637200" y="1916640"/>
            <a:ext cx="275400" cy="3174120"/>
          </a:xfrm>
          <a:prstGeom prst="curvedConnector5">
            <a:avLst>
              <a:gd name="adj1" fmla="val -176832"/>
              <a:gd name="adj2" fmla="val 50000"/>
              <a:gd name="adj3" fmla="val -176832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3" name=""/>
          <p:cNvCxnSpPr>
            <a:stCxn id="471" idx="0"/>
            <a:endCxn id="470" idx="0"/>
          </p:cNvCxnSpPr>
          <p:nvPr/>
        </p:nvCxnSpPr>
        <p:spPr>
          <a:xfrm flipH="1" rot="16200000">
            <a:off x="4114800" y="-1549080"/>
            <a:ext cx="138600" cy="4253760"/>
          </a:xfrm>
          <a:prstGeom prst="curvedConnector5">
            <a:avLst>
              <a:gd name="adj1" fmla="val -165364"/>
              <a:gd name="adj2" fmla="val 49995"/>
              <a:gd name="adj3" fmla="val -165364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cxnSp>
        <p:nvCxnSpPr>
          <p:cNvPr id="474" name=""/>
          <p:cNvCxnSpPr>
            <a:stCxn id="469" idx="4"/>
            <a:endCxn id="470" idx="1"/>
          </p:cNvCxnSpPr>
          <p:nvPr/>
        </p:nvCxnSpPr>
        <p:spPr>
          <a:xfrm flipV="1">
            <a:off x="3198960" y="3428280"/>
            <a:ext cx="916560" cy="1662840"/>
          </a:xfrm>
          <a:prstGeom prst="curvedConnector5">
            <a:avLst>
              <a:gd name="adj1" fmla="val 49901"/>
              <a:gd name="adj2" fmla="val 50000"/>
              <a:gd name="adj3" fmla="val 49901"/>
            </a:avLst>
          </a:prstGeom>
          <a:ln w="38160">
            <a:solidFill>
              <a:srgbClr val="ffcc66"/>
            </a:solidFill>
            <a:miter/>
            <a:headEnd len="med" type="stealth" w="med"/>
            <a:tailEnd len="med" type="stealth" w="med"/>
          </a:ln>
        </p:spPr>
      </p:cxnSp>
      <p:sp>
        <p:nvSpPr>
          <p:cNvPr id="475" name=""/>
          <p:cNvSpPr/>
          <p:nvPr/>
        </p:nvSpPr>
        <p:spPr>
          <a:xfrm>
            <a:off x="5486400" y="68580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1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Build an ontology that reflects re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tep 2: Data cap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038480" y="3629160"/>
            <a:ext cx="228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Step 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9082"/>
                </a:solidFill>
                <a:latin typeface="Century Gothic"/>
              </a:rPr>
              <a:t>Classify data using the ont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Ontology is a contract between researcher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 common language that allows us to share knowled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searchers have a stake in it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very individual will benefit by being able to </a:t>
            </a:r>
            <a:r>
              <a:rPr b="1" lang="en-US" sz="2400" spc="-1" strike="noStrike">
                <a:solidFill>
                  <a:srgbClr val="80ff00"/>
                </a:solidFill>
                <a:latin typeface="Century Gothic"/>
              </a:rPr>
              <a:t>accuratel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 interpret someone else’s dat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more pre-scrubb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No more time spent translat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type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instanc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instances with leaf nod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idea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ways of getting to know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ways of talking about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on’t confuse types with data about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7240" y="2379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 astronomy ontology should not includ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'Buzz Aldrin'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term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erms should be in the singul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void abbreviations even when it is clear in context what they mean (‘breast’ for ‘breast tumor’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nk of each term ‘A ’ in an ontology is shorthand for a term of the form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ype A ’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40" y="171360"/>
            <a:ext cx="9144000" cy="65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Rules o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terms used in a definition should be simpler (more intelligible) than the term to be defined; otherwise the definition provides no assista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itions should be intelligible to both machines and huma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human understand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Humans need clarity and modularity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o machine process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cc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achines can cope with the full formal representatio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nfusing non-useful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wimm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wimming is healthy and has 8 letter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oland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e name of Polan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hen defining terms us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 Aristotelia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definition of ‘A’ takes the form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n </a:t>
            </a:r>
            <a:r>
              <a:rPr b="0" lang="en-US" sz="2800" spc="-1" strike="noStrike">
                <a:solidFill>
                  <a:srgbClr val="80ff00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=def. is a </a:t>
            </a:r>
            <a:r>
              <a:rPr b="0" lang="en-US" sz="2800" spc="-1" strike="noStrike">
                <a:solidFill>
                  <a:srgbClr val="80ff00"/>
                </a:solidFill>
                <a:latin typeface="Courier New"/>
              </a:rPr>
              <a:t>B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which ..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ere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is </a:t>
            </a:r>
            <a:r>
              <a:rPr b="0" lang="en-US" sz="2400" spc="-1" strike="noStrike">
                <a:solidFill>
                  <a:srgbClr val="80ff00"/>
                </a:solidFill>
                <a:latin typeface="Century Gothic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’s parent in the hierarch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human being =def. an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animal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whi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is ration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helicase =def. an </a:t>
            </a:r>
            <a:r>
              <a:rPr b="0" lang="en-US" sz="2800" spc="-1" strike="noStrike">
                <a:solidFill>
                  <a:srgbClr val="80ff00"/>
                </a:solidFill>
                <a:latin typeface="Century Gothic"/>
              </a:rPr>
              <a:t>enzyme which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catalyzes the hydrolysis of ATP to unwind the DNA helix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se of Aristotelian definitions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kes defining terms easi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ach definition encapsulates in modular form the entire parentage of the defined ter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entire information content of the FMA’s term hierarchy and definitions can be translated very cleanly into a computer represent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accepted by G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ummary: How to build your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Keep It Simpl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west possible barrier to entr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echnology independe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arity of definitions and scop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ith new data, we change our minds”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 ontology must adapt to reflect current understanding of realit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27920" indent="-28008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chanisms to support chang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How to build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art 3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sociology and organizational aspect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4440960" y="6269040"/>
            <a:ext cx="476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Adopted from “Open Source Menu for Succes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Elements for Success: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Community with a common vis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pool of talented and motivated developers/scientist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mix of academic and commerci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organized, light weight approach to product develop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leadership structu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ca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 well-defined scope, (our “business”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915840" y="1652760"/>
            <a:ext cx="7313760" cy="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Gene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ommunity annotation produc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xtreme Programming” techniques to distributed ontology generatio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vision contro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ightly conflict resolut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sers are integral to the tea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05600" indent="-2714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apid iteration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4" name=""/>
          <p:cNvCxnSpPr>
            <a:stCxn id="505" idx="2"/>
            <a:endCxn id="506" idx="0"/>
          </p:cNvCxnSpPr>
          <p:nvPr/>
        </p:nvCxnSpPr>
        <p:spPr>
          <a:xfrm flipV="1" rot="10800000">
            <a:off x="7187400" y="4633560"/>
            <a:ext cx="1080" cy="6166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976320" y="200880"/>
            <a:ext cx="63792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366000" y="200880"/>
            <a:ext cx="89100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311880" y="5253840"/>
            <a:ext cx="17524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746440" y="644760"/>
            <a:ext cx="2130480" cy="183276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cover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65000" y="1741680"/>
            <a:ext cx="182592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898720" y="2884680"/>
            <a:ext cx="182556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822400" y="4332600"/>
            <a:ext cx="1978200" cy="128484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ed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2860560"/>
            <a:ext cx="2948040" cy="736200"/>
          </a:xfrm>
          <a:prstGeom prst="flowChartDecision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311880" y="4261680"/>
            <a:ext cx="17524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91640" y="4025160"/>
            <a:ext cx="100368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lv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5992920" y="6195240"/>
            <a:ext cx="2390760" cy="368280"/>
          </a:xfrm>
          <a:prstGeom prst="rect">
            <a:avLst/>
          </a:prstGeom>
          <a:solidFill>
            <a:srgbClr val="e9dcb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e &amp; Lea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07" idx="3"/>
            <a:endCxn id="508" idx="1"/>
          </p:cNvCxnSpPr>
          <p:nvPr/>
        </p:nvCxnSpPr>
        <p:spPr>
          <a:xfrm>
            <a:off x="1620360" y="385560"/>
            <a:ext cx="1739160" cy="1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08" idx="2"/>
            <a:endCxn id="509" idx="0"/>
          </p:cNvCxnSpPr>
          <p:nvPr/>
        </p:nvCxnSpPr>
        <p:spPr>
          <a:xfrm flipV="1" rot="10800000">
            <a:off x="3810960" y="572760"/>
            <a:ext cx="1080" cy="38808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18" name=""/>
          <p:cNvCxnSpPr/>
          <p:nvPr/>
        </p:nvCxnSpPr>
        <p:spPr>
          <a:xfrm flipV="1" rot="10800000">
            <a:off x="1677240" y="1522800"/>
            <a:ext cx="1069200" cy="49788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19" name=""/>
          <p:cNvCxnSpPr>
            <a:stCxn id="510" idx="3"/>
            <a:endCxn id="513" idx="0"/>
          </p:cNvCxnSpPr>
          <p:nvPr/>
        </p:nvCxnSpPr>
        <p:spPr>
          <a:xfrm>
            <a:off x="2590560" y="2384280"/>
            <a:ext cx="4599720" cy="518400"/>
          </a:xfrm>
          <a:prstGeom prst="bentConnector2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0" name=""/>
          <p:cNvCxnSpPr>
            <a:stCxn id="509" idx="3"/>
            <a:endCxn id="513" idx="0"/>
          </p:cNvCxnSpPr>
          <p:nvPr/>
        </p:nvCxnSpPr>
        <p:spPr>
          <a:xfrm>
            <a:off x="4876560" y="1560600"/>
            <a:ext cx="2313720" cy="1342080"/>
          </a:xfrm>
          <a:prstGeom prst="bentConnector2">
            <a:avLst/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1" name=""/>
          <p:cNvCxnSpPr/>
          <p:nvPr/>
        </p:nvCxnSpPr>
        <p:spPr>
          <a:xfrm flipH="1" rot="16200000">
            <a:off x="2498400" y="1851480"/>
            <a:ext cx="491400" cy="2134440"/>
          </a:xfrm>
          <a:prstGeom prst="bentConnector3">
            <a:avLst>
              <a:gd name="adj1" fmla="val 49780"/>
            </a:avLst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2" name=""/>
          <p:cNvCxnSpPr>
            <a:stCxn id="511" idx="2"/>
            <a:endCxn id="512" idx="0"/>
          </p:cNvCxnSpPr>
          <p:nvPr/>
        </p:nvCxnSpPr>
        <p:spPr>
          <a:xfrm flipV="1" rot="10800000">
            <a:off x="3810960" y="3852360"/>
            <a:ext cx="1080" cy="79632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3" name=""/>
          <p:cNvCxnSpPr>
            <a:stCxn id="511" idx="1"/>
            <a:endCxn id="514" idx="3"/>
          </p:cNvCxnSpPr>
          <p:nvPr/>
        </p:nvCxnSpPr>
        <p:spPr>
          <a:xfrm flipV="1" rot="10800000">
            <a:off x="1802520" y="3526200"/>
            <a:ext cx="1096200" cy="68364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4" name=""/>
          <p:cNvCxnSpPr>
            <a:stCxn id="514" idx="1"/>
            <a:endCxn id="509" idx="0"/>
          </p:cNvCxnSpPr>
          <p:nvPr/>
        </p:nvCxnSpPr>
        <p:spPr>
          <a:xfrm flipH="1" rot="10800000">
            <a:off x="783720" y="959760"/>
            <a:ext cx="3028320" cy="3250440"/>
          </a:xfrm>
          <a:prstGeom prst="bentConnector4">
            <a:avLst>
              <a:gd name="adj1" fmla="val -7549"/>
              <a:gd name="adj2" fmla="val 107022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2" idx="1"/>
            <a:endCxn id="514" idx="3"/>
          </p:cNvCxnSpPr>
          <p:nvPr/>
        </p:nvCxnSpPr>
        <p:spPr>
          <a:xfrm rot="10800000">
            <a:off x="1802520" y="4209480"/>
            <a:ext cx="1019880" cy="765720"/>
          </a:xfrm>
          <a:prstGeom prst="bentConnector3">
            <a:avLst>
              <a:gd name="adj1" fmla="val 50000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6" name=""/>
          <p:cNvCxnSpPr>
            <a:stCxn id="512" idx="3"/>
            <a:endCxn id="506" idx="0"/>
          </p:cNvCxnSpPr>
          <p:nvPr/>
        </p:nvCxnSpPr>
        <p:spPr>
          <a:xfrm>
            <a:off x="4800600" y="4974840"/>
            <a:ext cx="2388240" cy="275400"/>
          </a:xfrm>
          <a:prstGeom prst="bentConnector2">
            <a:avLst/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7" name=""/>
          <p:cNvCxnSpPr>
            <a:stCxn id="513" idx="3"/>
            <a:endCxn id="508" idx="3"/>
          </p:cNvCxnSpPr>
          <p:nvPr/>
        </p:nvCxnSpPr>
        <p:spPr>
          <a:xfrm flipH="1" flipV="1">
            <a:off x="4263480" y="385200"/>
            <a:ext cx="4399560" cy="2843640"/>
          </a:xfrm>
          <a:prstGeom prst="bentConnector3">
            <a:avLst>
              <a:gd name="adj1" fmla="val -5188"/>
            </a:avLst>
          </a:prstGeom>
          <a:ln cap="rnd" w="38160">
            <a:solidFill>
              <a:srgbClr val="ffff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8" name=""/>
          <p:cNvCxnSpPr>
            <a:stCxn id="513" idx="2"/>
            <a:endCxn id="505" idx="0"/>
          </p:cNvCxnSpPr>
          <p:nvPr/>
        </p:nvCxnSpPr>
        <p:spPr>
          <a:xfrm rot="5400000">
            <a:off x="6836400" y="3904920"/>
            <a:ext cx="704160" cy="2520"/>
          </a:xfrm>
          <a:prstGeom prst="bentConnector3">
            <a:avLst>
              <a:gd name="adj1" fmla="val 49872"/>
            </a:avLst>
          </a:prstGeom>
          <a:ln w="38160">
            <a:solidFill>
              <a:srgbClr val="80ff00"/>
            </a:solidFill>
            <a:prstDash val="dash"/>
            <a:miter/>
            <a:tailEnd len="med" type="triangle" w="med"/>
          </a:ln>
        </p:spPr>
      </p:cxnSp>
      <p:cxnSp>
        <p:nvCxnSpPr>
          <p:cNvPr id="529" name=""/>
          <p:cNvCxnSpPr>
            <a:stCxn id="506" idx="2"/>
            <a:endCxn id="515" idx="0"/>
          </p:cNvCxnSpPr>
          <p:nvPr/>
        </p:nvCxnSpPr>
        <p:spPr>
          <a:xfrm flipV="1" rot="10800000">
            <a:off x="7187400" y="5625720"/>
            <a:ext cx="1080" cy="56592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530" name=""/>
          <p:cNvSpPr/>
          <p:nvPr/>
        </p:nvSpPr>
        <p:spPr>
          <a:xfrm>
            <a:off x="687600" y="532440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ff00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7960" y="571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2" name=""/>
          <p:cNvCxnSpPr>
            <a:stCxn id="515" idx="3"/>
            <a:endCxn id="506" idx="3"/>
          </p:cNvCxnSpPr>
          <p:nvPr/>
        </p:nvCxnSpPr>
        <p:spPr>
          <a:xfrm flipH="1" flipV="1">
            <a:off x="8063640" y="5438160"/>
            <a:ext cx="320040" cy="942120"/>
          </a:xfrm>
          <a:prstGeom prst="bentConnector3">
            <a:avLst>
              <a:gd name="adj1" fmla="val -71621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747360"/>
            <a:ext cx="838224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your domain covere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Due diligence &amp; background research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3603240"/>
            <a:ext cx="7772400" cy="343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ep 1: Learn what is out ther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most comprehensive list is on the OBO site. 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Century Gothic"/>
                <a:hlinkClick r:id="rId1"/>
              </a:rPr>
              <a:t>http://obo.sourceforge.ne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ssess ontologies critically and realistically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0" y="306360"/>
            <a:ext cx="9144000" cy="625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-939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t is privately hel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Ontologies must be shared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400" y="1919160"/>
            <a:ext cx="8991720" cy="581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ommunities form scientific theories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seek to explain all of the existing eviden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nd can be used for predicti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communities are all directed to the same biological reality, but have their own perspec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computable representation must be shar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y development is inherently collabora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pen ontologies become connected to instance data &amp; this feeds back on ontology develop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69984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it active?</a:t>
            </a: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Pragmatic assessment of an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77240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re access to help, e.g.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elp-me@weird.ontology.net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es a warm body answer help mail within a ‘reasonable’ time—say 2 working days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96440" y="6091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Is it applied?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 Gothic"/>
              </a:rPr>
              <a:t>Toy ontologies are not useful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very ontology improves when it is applied to actual instances of d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 improves even more when these data are used to answer research questi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re will be fewer problems in the ontology and more commitment to fixing remaining problems when important research data is involved that scientists depend upo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e very wary of ontologies that have never been appli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Work with that communit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o improve (if you found one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o develop (if you did not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ff00"/>
                </a:solidFill>
                <a:latin typeface="Century Gothic"/>
              </a:rPr>
              <a:t>How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"/>
          <p:cNvSpPr/>
          <p:nvPr/>
        </p:nvSpPr>
        <p:spPr>
          <a:xfrm>
            <a:off x="6400800" y="3051720"/>
            <a:ext cx="175248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ro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081840" y="4680360"/>
            <a:ext cx="23907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llaborate and Lea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5" name=""/>
          <p:cNvCxnSpPr>
            <a:stCxn id="543" idx="2"/>
            <a:endCxn id="544" idx="0"/>
          </p:cNvCxnSpPr>
          <p:nvPr/>
        </p:nvCxnSpPr>
        <p:spPr>
          <a:xfrm flipV="1" rot="10800000">
            <a:off x="7276320" y="3636720"/>
            <a:ext cx="1080" cy="1040400"/>
          </a:xfrm>
          <a:prstGeom prst="bentConnector2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44" idx="2"/>
            <a:endCxn id="543" idx="1"/>
          </p:cNvCxnSpPr>
          <p:nvPr/>
        </p:nvCxnSpPr>
        <p:spPr>
          <a:xfrm flipV="1" rot="16200000">
            <a:off x="5633640" y="4109400"/>
            <a:ext cx="2410560" cy="876960"/>
          </a:xfrm>
          <a:prstGeom prst="bentConnector4">
            <a:avLst>
              <a:gd name="adj1" fmla="val -25556"/>
              <a:gd name="adj2" fmla="val 263203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munity vs. Committee ?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any people have (understandably) reservations about collaborative development, because it can easily be confused with design-by-committee project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mbers of a committee represent themselves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embers of a community represent their communit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Design for purpose - not in abstract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o will use i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f no one is interested, then go back to b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at will they use it for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efine the domai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ho will maintain it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 pragmatic and modes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864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art with a concrete proposal —not a blank slate.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do not commit your ego to i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Distribute to a small group you respect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a shared commitment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ith broad domain knowledg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o will engage in vigorous debate without engaging their egos (or, at least not too much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o will do concrete work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1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lpha0: the first proposal - broad in breadth but shallow in depth. By one person with broad domain knowledg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stribute to a small group (&lt;6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et together for two days and engage in vigorous discussion. Be open and frank. Argue, but do not be dogmatic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Reiterate over a period of months. Do as much as possible face-to-face, rather than by phone/email. Meet for 2 days every 3 months or s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2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istribute Alpha1 to your group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ll now test this Alpha1 in real lif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y classifying representations of instances with these typ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Do not worry that (at this stage) you if do not have tool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3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Reconvene as a group for two days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22200" indent="-32220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hare experiences from implementatio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an your Alpha1 be implemented in a useful way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conceptual problems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8400" indent="-26856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at are the structural problems 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34880" y="5029200"/>
            <a:ext cx="82724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Microarray data from Figure 2K of Eisen et al. (1998).  Cluster analysis and display of genome-wide expression patterns, </a:t>
            </a:r>
            <a:r>
              <a:rPr b="0" i="1" lang="en-US" sz="1800" spc="-1" strike="noStrike">
                <a:solidFill>
                  <a:srgbClr val="ffffff"/>
                </a:solidFill>
                <a:latin typeface="Century Gothic"/>
              </a:rPr>
              <a:t>Proc. Natl. Acad. Sci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95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25): 14863-14868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44600" y="1295280"/>
            <a:ext cx="115560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18800"/>
            <a:ext cx="9144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Annotation of Yeast Microarray Clusters Using GO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90720" y="2209680"/>
          <a:ext cx="8153280" cy="4587840"/>
        </p:xfrm>
        <a:graphic>
          <a:graphicData uri="http://schemas.openxmlformats.org/drawingml/2006/table">
            <a:tbl>
              <a:tblPr/>
              <a:tblGrid>
                <a:gridCol w="761760"/>
                <a:gridCol w="2133720"/>
                <a:gridCol w="2743200"/>
                <a:gridCol w="2514600"/>
              </a:tblGrid>
              <a:tr h="18288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GE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PROCES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FUN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ELLULAR COMPON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4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NDI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NADH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QCR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X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 oxid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RIP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Rieske Fe-S prote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X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oxidative phosphoryl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 oxid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OR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DH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succinate dehydrogenase subuni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DH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tricarboxylic acid cycl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alate dehydrogen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matrix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QCR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ubiquinol--cytochrome-c reducta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400"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electron transpor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cytochrome-c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Osaka"/>
                        </a:rPr>
                        <a:t>mitochondrial inner membran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2951280" y="2495520"/>
          <a:ext cx="3078000" cy="19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1280" y="2495520"/>
                    <a:ext cx="3078000" cy="1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2951280" y="2828880"/>
          <a:ext cx="3243240" cy="147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51280" y="2828880"/>
                    <a:ext cx="3243240" cy="14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206880" y="2552760"/>
            <a:ext cx="139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6880" y="4029120"/>
            <a:ext cx="139680" cy="0"/>
          </a:xfrm>
          <a:prstGeom prst="line">
            <a:avLst/>
          </a:prstGeom>
          <a:ln w="12600">
            <a:solidFill>
              <a:srgbClr val="414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2590920"/>
            <a:ext cx="457200" cy="1981080"/>
          </a:xfrm>
          <a:prstGeom prst="ellipse">
            <a:avLst/>
          </a:prstGeom>
          <a:noFill/>
          <a:ln w="572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4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stablish a mechanism for chang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CVS or Subversion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imit the number of editors with write permission (ideally to one person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Unique stable identifier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History tracking of chang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a Beta1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riously implement Beta1 in real lif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ild the ontology in dept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5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about 6 months reconvene and evaluat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the ontology suited to its purpose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s it, in practice, usable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re we happy about its broad structure and content 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6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Go public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ontology to communit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Release the products of the annotation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nvite broad community input and establish a mechanism for this (e.g. SourceForge)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7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Proselytiz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ublish in  a high profile journa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Engage new user group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Emphasize opennes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Write a gran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8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terat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mprovements come in two form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It is impossible to get it right the 1st (or 2nd, or 3rd, …) tim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e3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hat we know about reality is continually grow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4969800" y="2689560"/>
            <a:ext cx="3502800" cy="3317400"/>
            <a:chOff x="4969800" y="2689560"/>
            <a:chExt cx="3502800" cy="3317400"/>
          </a:xfrm>
        </p:grpSpPr>
        <p:sp>
          <p:nvSpPr>
            <p:cNvPr id="570" name=""/>
            <p:cNvSpPr/>
            <p:nvPr/>
          </p:nvSpPr>
          <p:spPr>
            <a:xfrm>
              <a:off x="6400800" y="2689560"/>
              <a:ext cx="1752480" cy="581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Improve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81840" y="4318200"/>
              <a:ext cx="2390760" cy="1068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Arial"/>
                </a:rPr>
                <a:t>Collaborate and Learn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72" name=""/>
            <p:cNvCxnSpPr>
              <a:stCxn id="570" idx="2"/>
              <a:endCxn id="571" idx="0"/>
            </p:cNvCxnSpPr>
            <p:nvPr/>
          </p:nvCxnSpPr>
          <p:spPr>
            <a:xfrm flipV="1" rot="10800000">
              <a:off x="7276320" y="3274560"/>
              <a:ext cx="1080" cy="1040400"/>
            </a:xfrm>
            <a:prstGeom prst="bentConnector2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73" name=""/>
            <p:cNvCxnSpPr>
              <a:stCxn id="571" idx="2"/>
              <a:endCxn id="570" idx="1"/>
            </p:cNvCxnSpPr>
            <p:nvPr/>
          </p:nvCxnSpPr>
          <p:spPr>
            <a:xfrm flipV="1" rot="16200000">
              <a:off x="5633640" y="3747240"/>
              <a:ext cx="2410560" cy="876960"/>
            </a:xfrm>
            <a:prstGeom prst="bentConnector4">
              <a:avLst>
                <a:gd name="adj1" fmla="val -25556"/>
                <a:gd name="adj2" fmla="val 263203"/>
              </a:avLst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Step 9: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374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ffffff"/>
                </a:solidFill>
                <a:latin typeface="Bradley Hand ITC TT-Bold"/>
              </a:rPr>
              <a:t>Bon appetit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5560" y="609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Use the power of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combination and collaboration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s far as possible don’t reinv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logies are like telephones: they are valuable only to the degree that they are used and networked with other ontologi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ut choose working teleph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spcBef>
                <a:spcPts val="700"/>
              </a:spcBef>
              <a:buClr>
                <a:srgbClr val="66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ost telephones were broken when the technology was first being develope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The National Center for Biomedical Ontology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UCSF – Oregon – Cambridg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71406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981080" y="3048120"/>
            <a:ext cx="2667240" cy="685800"/>
          </a:xfrm>
          <a:prstGeom prst="ellipse">
            <a:avLst/>
          </a:prstGeom>
          <a:noFill/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-2449800" y="3021480"/>
            <a:ext cx="14048280" cy="821880"/>
          </a:xfrm>
          <a:prstGeom prst="ellipse">
            <a:avLst/>
          </a:prstGeom>
          <a:noFill/>
          <a:ln w="7632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9ea8"/>
                </a:solidFill>
                <a:latin typeface="Century Gothic"/>
              </a:rPr>
              <a:t>Bioinformatics and Computational B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Century Gothic"/>
              </a:rPr>
              <a:t>National Centers for Biomedical Computing—2005</a:t>
            </a:r>
            <a:endParaRPr b="0" lang="en-US" sz="4400" spc="-1" strike="noStrike">
              <a:solidFill>
                <a:srgbClr val="ffcc6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ational Center for Integrative Biomedical Informatics (Michigan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National Center for Multi-Scale Study of Cellular Networks (Columbia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591120" indent="-591120">
              <a:spcBef>
                <a:spcPts val="799"/>
              </a:spcBef>
              <a:buClr>
                <a:srgbClr val="66ffcc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18:01:42Z</dcterms:created>
  <dc:creator>Suzanna Lewis</dc:creator>
  <dc:description/>
  <dc:language>en-US</dc:language>
  <cp:lastModifiedBy>Suzanna Lewis</cp:lastModifiedBy>
  <dcterms:modified xsi:type="dcterms:W3CDTF">2006-04-20T18:55:34Z</dcterms:modified>
  <cp:revision>167</cp:revision>
  <dc:subject/>
  <dc:title>The Joy of Ontology</dc:title>
</cp:coreProperties>
</file>